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2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9.gif" ContentType="image/gif"/>
  <Override PartName="/ppt/media/image14.jpeg" ContentType="image/jpeg"/>
  <Override PartName="/ppt/media/image15.png" ContentType="image/png"/>
  <Override PartName="/ppt/media/image11.png" ContentType="image/png"/>
  <Override PartName="/ppt/media/coin.wav" ContentType="audio/x-wav"/>
  <Override PartName="/ppt/media/image23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993-6356-4DE4-BB88-C44E3C9A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4F2-B83A-4004-9A75-40AFBDA4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9E7-17A9-4F02-95E2-68086BFC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133-FD14-4199-83C2-6BAEBA1F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8944-FABE-4DD9-84D5-3A5C84E1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1E24-4DF5-43CF-BD0A-3E50B660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661F-57FC-45B5-8D32-E6CA23A4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248E-FDEE-4F70-A499-429C9058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6F17-0B99-4B8B-84B0-DB7FECAC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006E-361E-443A-81AA-ACD0F83B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D731-A4BA-4253-972D-779BEACA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491-208B-40B3-B09D-D32C10AD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BB7D-148C-4D75-9DE2-E19897E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41C2-88F5-4CC3-8207-66D7400D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E24B-35AE-47A1-A33D-7814DD84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6913-7DE0-4531-900A-9FC6F6F3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B284-EBDA-4111-9A07-7C9F6AC5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0987-AB1B-427D-9947-63D7004C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0FBB-FA0F-443B-937B-D4776F5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E26B-928F-44FF-8589-665D5402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1C43-C48F-4A58-A569-AA3A0A5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422B-3329-4D97-80BD-4B525570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14E-EF96-406D-9F54-0280B392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E0F9-3923-4625-B3D4-526A7FC3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A56F-3617-4668-BCBC-8448796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6600-DD55-4B20-BD01-F5BBD159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2DC4-9220-4DEA-A098-E8BB0ABE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88ED-5236-4DF3-9DD0-C12F0F0F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03E2-DC18-4167-8E2A-44B229BC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3996-3CAC-4BEB-A9DC-1F67EDF9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0DF4-F6FC-4C4C-9333-613C1F68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39B9E-7984-4CE7-89EE-4EFFEB47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9434-C8FE-486D-A957-DF24278F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FFA-C79F-4BA5-A5AA-682C65C5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6065E-385F-403A-A86F-0477323E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37348-456B-4A97-B50A-A2CD067B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B6A3-4049-415C-9454-B2426707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DC6BC-D2BB-44E3-89A9-D9551AC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CFF4-6107-4EA0-8239-A5404CD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315CB-2F7B-4985-89C6-5A71533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7225-6A9C-4E83-90C8-A4BBC6D7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4C3E-0B72-4BF2-B035-7DC7C476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73576-37ED-4685-B51F-07BFE97C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92ABF-452F-4717-8E15-7516F84D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240-7B21-446C-9F68-D9DC63E3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67EE5-6232-40B6-AA1F-D13473B4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B3183-9367-4EF8-8C4D-C45A9BDE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0FFC9-31EE-4FC1-A257-4BAE46A7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8D24B-70A2-402E-83B3-62DCB84A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0088-5221-41FE-9B09-D7EEB0DC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1B314-20E3-413F-928E-08B9FBFA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BBBB7-9846-4F89-83BD-8DD731F2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AB01F-636C-42EA-AA7F-191F1E96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16758-3030-4C70-A701-EB0BE3CA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E01B-0646-43BE-9D7D-56ADA780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32D-0237-417F-9078-AF930C4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761AA-C997-482E-BC30-D359391C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3818C-3A36-44D7-8426-A6051206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D001E-F342-4CCE-8DC4-913749ED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CDF0-DE70-482E-9523-C02B80F2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0275A-0E2A-456C-9049-4ACBC759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8BCFE-63FA-4FBB-94E8-BCC3E2C9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95DD-60B1-4E28-A707-E39B8D87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08704-7DF0-4B55-9A19-083EFBF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03AC-D5A6-4F1A-93FF-2D48D3EF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2BE53-2BB0-4915-9718-4A2B7DEF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ECB-FB83-43B7-BEF5-CA8051C8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6155-40E7-481F-84B6-C26E8AD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AB646-F459-4729-8AD2-37E06B01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D4A5F-8B59-41C2-9D1F-2DB319AD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9BD-F53F-4006-97EF-D8253C9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807-7B23-4376-96A1-1FE1E323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3B7-BBFC-46BD-B62C-7D6A36A8AB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DA05-7770-4C31-9D21-D3AAFD34BD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5CE0-D15A-4899-AEA4-8D03B8A264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0857-BDC3-4146-9EE8-A380374B67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6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E417-EF10-465F-B1BA-06E7861A76B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1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1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2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BCD0-81FA-4A84-98CF-B7F6654E821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mailto:vtopildiev@mail.ru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4" descr="images_38[1].jpg"/>
          <p:cNvPicPr/>
          <p:nvPr/>
        </p:nvPicPr>
        <p:blipFill>
          <a:blip r:embed="rId1"/>
          <a:stretch/>
        </p:blipFill>
        <p:spPr>
          <a:xfrm>
            <a:off x="291960" y="-133200"/>
            <a:ext cx="7712280" cy="2138040"/>
          </a:xfrm>
          <a:prstGeom prst="rect">
            <a:avLst/>
          </a:prstGeom>
          <a:ln w="0">
            <a:noFill/>
          </a:ln>
        </p:spPr>
      </p:pic>
      <p:sp>
        <p:nvSpPr>
          <p:cNvPr id="368" name="Oval 9"/>
          <p:cNvSpPr/>
          <p:nvPr/>
        </p:nvSpPr>
        <p:spPr>
          <a:xfrm>
            <a:off x="7858080" y="285840"/>
            <a:ext cx="1143000" cy="107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2699640"/>
            <a:ext cx="820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500" spc="-1" strike="noStrike">
                <a:solidFill>
                  <a:srgbClr val="008000"/>
                </a:solidFill>
                <a:latin typeface="Arial"/>
              </a:rPr>
              <a:t>ТАЪЛИМ ВА ТАРБИЯ ЖАРАЁНЛАРИНИ ТАШКИЛ ЭТИШНИНГ  Қ</a:t>
            </a:r>
            <a:r>
              <a:rPr b="1" i="1" lang="ru-RU" sz="3500" spc="-1" strike="noStrike">
                <a:solidFill>
                  <a:srgbClr val="008000"/>
                </a:solidFill>
                <a:latin typeface="Arial"/>
              </a:rPr>
              <a:t>ОНУН ХУЖЖАТЛАР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530064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</a:t>
            </a:r>
            <a:r>
              <a:rPr b="1" lang="uz-Cyrl-UZ" sz="2000" spc="-1" strike="noStrike">
                <a:solidFill>
                  <a:srgbClr val="ffffff"/>
                </a:solidFill>
                <a:latin typeface="Tahoma"/>
              </a:rPr>
              <a:t>.ф.н., доцент  В.Р.Топилди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vtopildiev@ma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4"/>
          <p:cNvSpPr/>
          <p:nvPr/>
        </p:nvSpPr>
        <p:spPr>
          <a:xfrm>
            <a:off x="324000" y="1628640"/>
            <a:ext cx="853416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онун</a:t>
            </a: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Ўзбекистон Республикасида энг муҳим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барқарор  ижтимоий муносабатларни тартиб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соладиган, Ўзбекистон Республикаси О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томонидан ёки референдум ўткази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йўли билан қабул қилинадиган олий юрид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учга эга бўл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4"/>
          <p:cNvSpPr/>
          <p:nvPr/>
        </p:nvSpPr>
        <p:spPr>
          <a:xfrm>
            <a:off x="324000" y="1628640"/>
            <a:ext cx="864072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н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давл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ошлиғи томонидан мамлакатимизда бир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ир сохада жуда катта ўзгаришларга оли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ладиган ўта мухим масалалар бўйи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 асосида ҳамда уларни ижр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этиш учун қабул 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4"/>
          <p:cNvSpPr/>
          <p:nvPr/>
        </p:nvSpPr>
        <p:spPr>
          <a:xfrm>
            <a:off x="395280" y="1628640"/>
            <a:ext cx="8534520" cy="34578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йиш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чиктириб бўлмай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тезда бажарилиши лоз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ўлг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салалар бўйича ваколатли давлат органла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ёки мансабдор шахслар томонидан қабу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4"/>
          <p:cNvSpPr/>
          <p:nvPr/>
        </p:nvSpPr>
        <p:spPr>
          <a:xfrm>
            <a:off x="0" y="1484280"/>
            <a:ext cx="9144000" cy="38880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арор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, Ўзбекистон Республикаси Ол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палаталарининг қарорлари, Ўзбекист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Республикаси Президентининг фармонла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арорлари ва фармойишлари асосида ҳам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уларни ижро этиш учун Ўзбекистон Республик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ар Маҳкамаси томонидан қабул қилина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/>
          <p:cNvSpPr/>
          <p:nvPr/>
        </p:nvSpPr>
        <p:spPr>
          <a:xfrm>
            <a:off x="0" y="1197000"/>
            <a:ext cx="9325080" cy="4537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Буйруқ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идоралар, корхоналар ва ташкилотлар томонид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онунлари, Ўзбекистон Республикаси Олий Мажли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алаталарининг қарорлари, 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резидентининг фармонлари, қарорлар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фармойишлари, Ўзбекистон Республикаси Вазирл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ҳкамасининг қарорлари ва фармойиш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асосида ҳамда уларни ижро этиш учун қаб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55640" y="404640"/>
            <a:ext cx="784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ва тарбия жараёнларин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ҳуқуқий асослар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220500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1.Ўзбекистон Республикасининг Конституцияс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682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2.Ўзбекистон Республикасининг “Таълим тўғрисида”ги Қону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3.Кадрлар тайёрлаш Миллий Дас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Ўзбекистон Республикаси Президентининг фармонлари, фармойишлари,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5.Ўзбекистон Республикаси Вазирлар Махкамасининг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хсус ваколатли давлат органлар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нинг буйруқ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067280" y="2001960"/>
            <a:ext cx="48974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вало, барчамиз бир ҳақиқатни англаб, тушуниб бормоқдамиз – бугун жамиятимизда қандай ютуқ ва марраларга эришаётган бўлсак, буларнинг пойдеворида Конституциямиз, буюк ҳаёт қомусимиз турибд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Tahoma"/>
              </a:rPr>
              <a:t>И.А.Карим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851280" cy="3546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179280" y="260280"/>
            <a:ext cx="8964720" cy="1197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D:\temur's documents\rasmlar temur\dars uchun\konstitutsiya.jpg"/>
          <p:cNvPicPr/>
          <p:nvPr/>
        </p:nvPicPr>
        <p:blipFill>
          <a:blip r:embed="rId3"/>
          <a:stretch/>
        </p:blipFill>
        <p:spPr>
          <a:xfrm>
            <a:off x="0" y="1700280"/>
            <a:ext cx="399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5357880" cy="230508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Конституция» тушунчаси лотинча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tityti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 сўзидан келиб чиққан бўлиб, ўрнатиш жорий этиш маъносини билдиради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07CC-C929-490A-92E0-FA87DF3E167A}" type="slidenum">
              <a:rPr b="0" lang="en-US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 rot="1617600">
            <a:off x="6372000" y="1557000"/>
            <a:ext cx="2092320" cy="265428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3789360"/>
            <a:ext cx="5113440" cy="230364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унёдаги илк Конституция -1787 йилдаги АҚШнинг Конституцияси б</a:t>
            </a:r>
            <a:r>
              <a:rPr b="0" lang="uz-Cyrl-UZ" sz="2800" spc="-1" strike="noStrike">
                <a:solidFill>
                  <a:srgbClr val="0000ff"/>
                </a:solidFill>
                <a:latin typeface="Arial"/>
                <a:ea typeface="Arial"/>
              </a:rPr>
              <a:t>ўлиб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у шу кунгача амал қилиб келмоқ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0EDC-51DF-4262-8B8B-B92890B52309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 rot="1963200">
            <a:off x="7164000" y="980640"/>
            <a:ext cx="1419120" cy="1800360"/>
          </a:xfrm>
          <a:prstGeom prst="rect">
            <a:avLst/>
          </a:prstGeom>
          <a:ln w="0">
            <a:noFill/>
          </a:ln>
        </p:spPr>
      </p:pic>
      <p:sp>
        <p:nvSpPr>
          <p:cNvPr id="429" name="Заголовок 1"/>
          <p:cNvSpPr/>
          <p:nvPr/>
        </p:nvSpPr>
        <p:spPr>
          <a:xfrm>
            <a:off x="900000" y="2602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ЎЗБЕКИСТОН РЕСПУБЛИКАСИ КОНСТИТУЦИЯ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Diagram 7"/>
          <p:cNvGrpSpPr/>
          <p:nvPr/>
        </p:nvGrpSpPr>
        <p:grpSpPr>
          <a:xfrm>
            <a:off x="395280" y="1341360"/>
            <a:ext cx="8497440" cy="5230080"/>
            <a:chOff x="395280" y="1341360"/>
            <a:chExt cx="8497440" cy="5230080"/>
          </a:xfrm>
        </p:grpSpPr>
        <p:pic>
          <p:nvPicPr>
            <p:cNvPr id="431" name="Схема 7" descr=""/>
            <p:cNvPicPr/>
            <p:nvPr/>
          </p:nvPicPr>
          <p:blipFill>
            <a:blip r:embed="rId2"/>
            <a:stretch/>
          </p:blipFill>
          <p:spPr>
            <a:xfrm>
              <a:off x="395280" y="1532160"/>
              <a:ext cx="8497440" cy="50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Picture 13"/>
            <p:cNvSpPr/>
            <p:nvPr/>
          </p:nvSpPr>
          <p:spPr>
            <a:xfrm>
              <a:off x="538560" y="1341360"/>
              <a:ext cx="1980000" cy="13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Picture 5" descr="uz1"/>
          <p:cNvPicPr/>
          <p:nvPr/>
        </p:nvPicPr>
        <p:blipFill>
          <a:blip r:embed="rId3"/>
          <a:stretch/>
        </p:blipFill>
        <p:spPr>
          <a:xfrm>
            <a:off x="826920" y="1357200"/>
            <a:ext cx="2030760" cy="123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7607-0DC7-44C1-BAA7-721384580A35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Organization Chart 68"/>
          <p:cNvGrpSpPr/>
          <p:nvPr/>
        </p:nvGrpSpPr>
        <p:grpSpPr>
          <a:xfrm>
            <a:off x="324000" y="78480"/>
            <a:ext cx="8424720" cy="6523560"/>
            <a:chOff x="324000" y="78480"/>
            <a:chExt cx="8424720" cy="6523560"/>
          </a:xfrm>
        </p:grpSpPr>
        <p:pic>
          <p:nvPicPr>
            <p:cNvPr id="436" name="Схема 6" descr="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8424720" cy="62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Picture 82"/>
            <p:cNvSpPr/>
            <p:nvPr/>
          </p:nvSpPr>
          <p:spPr>
            <a:xfrm rot="1963800">
              <a:off x="6419880" y="340920"/>
              <a:ext cx="154260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Picture 83"/>
            <p:cNvSpPr/>
            <p:nvPr/>
          </p:nvSpPr>
          <p:spPr>
            <a:xfrm>
              <a:off x="731160" y="340920"/>
              <a:ext cx="218376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9" name="Picture 5" descr="uz1"/>
          <p:cNvPicPr/>
          <p:nvPr/>
        </p:nvPicPr>
        <p:blipFill>
          <a:blip r:embed="rId2"/>
          <a:stretch/>
        </p:blipFill>
        <p:spPr>
          <a:xfrm>
            <a:off x="900000" y="642960"/>
            <a:ext cx="2473560" cy="114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 rot="1963200">
            <a:off x="6573960" y="659880"/>
            <a:ext cx="136512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140360" y="2349360"/>
            <a:ext cx="482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таълим тизимида таълим ва тарбиянинг узвий равишда олиб борилиши нафақат мамлакатнинг интеллектуал жиҳатдан юксалишига, шунингдек, маънавий баркамол бўлишини ҳа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таъминлайди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.А.Кари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995640" cy="4581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9640" y="2349360"/>
            <a:ext cx="8209080" cy="173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Ўзбекистон Республик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аълим тўғрисида”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Қону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Rectangle 3"/>
          <p:cNvGrpSpPr/>
          <p:nvPr/>
        </p:nvGrpSpPr>
        <p:grpSpPr>
          <a:xfrm>
            <a:off x="395280" y="2128680"/>
            <a:ext cx="8424360" cy="4483080"/>
            <a:chOff x="395280" y="2128680"/>
            <a:chExt cx="8424360" cy="448308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395280" y="2417400"/>
              <a:ext cx="842436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30280" y="2128680"/>
              <a:ext cx="8231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Умумий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қ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идалар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ва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урлар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 жараёни қатнашчиларини ижтимоий химоя қил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ни бошқар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Якунловчи қоидала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Rectangle 2"/>
          <p:cNvGrpSpPr/>
          <p:nvPr/>
        </p:nvGrpSpPr>
        <p:grpSpPr>
          <a:xfrm>
            <a:off x="684360" y="404640"/>
            <a:ext cx="8013240" cy="1511280"/>
            <a:chOff x="684360" y="404640"/>
            <a:chExt cx="8013240" cy="1511280"/>
          </a:xfrm>
        </p:grpSpPr>
        <p:pic>
          <p:nvPicPr>
            <p:cNvPr id="446" name="Rectangle 2" descr="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80132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60320" y="613440"/>
              <a:ext cx="7833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Таълим тўғрисида”ги қонуннинг тузилиш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ълим соҳасидаги давлат сиёсатининг асосий принциплари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Скругленный прямоугольник 4"/>
          <p:cNvGrpSpPr/>
          <p:nvPr/>
        </p:nvGrpSpPr>
        <p:grpSpPr>
          <a:xfrm>
            <a:off x="2195640" y="5157720"/>
            <a:ext cx="6754680" cy="1366560"/>
            <a:chOff x="2195640" y="5157720"/>
            <a:chExt cx="6754680" cy="1366560"/>
          </a:xfrm>
        </p:grpSpPr>
        <p:pic>
          <p:nvPicPr>
            <p:cNvPr id="45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95640" y="5157720"/>
              <a:ext cx="675468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293920" y="5298840"/>
              <a:ext cx="65692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та махсус, касб-ҳунар таълими йўналишини: академик лицейда ёки касб-ҳунар коллежида ўқишни танлашнинг ихтиё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45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мумий ўрта,</a:t>
              </a: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ўрта махсус, касб-ҳунар таълимининг мажбу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45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 ва изчил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45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 ва тарбиянинг инсонпарвар, демократик характерда эканлиги;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7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63840" y="591120"/>
            <a:ext cx="7979760" cy="778320"/>
          </a:xfrm>
          <a:prstGeom prst="rect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нинг дунёвий характерда экан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с двумя скругленными противолежащими углами 6"/>
          <p:cNvSpPr/>
          <p:nvPr/>
        </p:nvSpPr>
        <p:spPr>
          <a:xfrm>
            <a:off x="539640" y="1773360"/>
            <a:ext cx="8158320" cy="100008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лат таълим стандартлари доирасида таълим олишнинг ҳамма учун очиқ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с двумя скругленными противолежащими углами 6"/>
          <p:cNvSpPr/>
          <p:nvPr/>
        </p:nvSpPr>
        <p:spPr>
          <a:xfrm>
            <a:off x="539640" y="2997360"/>
            <a:ext cx="8229600" cy="93636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дастурларини танлашга ягона ва табақалаштирилган ёндашу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с двумя скругленными противолежащими углами 6"/>
          <p:cNvSpPr/>
          <p:nvPr/>
        </p:nvSpPr>
        <p:spPr>
          <a:xfrm>
            <a:off x="539640" y="4221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мли бўлишни ва истеъдодни рағбатлантириш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с двумя скругленными противолежащими углами 6"/>
          <p:cNvSpPr/>
          <p:nvPr/>
        </p:nvSpPr>
        <p:spPr>
          <a:xfrm>
            <a:off x="539640" y="5445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да давлат ва жамоат бошқарувини уйғунлаштириш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00000" y="260280"/>
            <a:ext cx="7632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илим олиш ҳуқуқ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26828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1.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лат ва нодавлат таълим муассасаларини ривожлантир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2.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лаб чиқаришдан ажралган ва ажралмаган ҳолда таълим олишни ташкил э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3.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ълим ва кадрлар тайёрлаш давлат дастурлари асосида бепул ўқитиш, шунингдек, таълим муассасаларида шартнома асосида тўлов эвазига касб-ҳунар ўрга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ча турдаги таълим муассасаларининг битирувчилари кейинги босқичдаги ўқув юртларига киришда тенг ҳуқуқларга эга бўлиш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5.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ада ёки ўзи мустақил равишда билим олган фуқароларга аккредитациядан ўтган таълим муассасаларида экстернат тартибида аттестациядан ўтиш ҳуқуқини бериш орқали таъминлана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468360" y="1484280"/>
            <a:ext cx="8245440" cy="144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гишли маълумоти, касб тайёргарлиги бор ва юксак ахлоқий фазилатларга эга бўлган шахслар педагогик фаолият билан шуғулланиш ҳуқуқига э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468360" y="3141720"/>
            <a:ext cx="8316720" cy="158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ни олий ўқув юртларига ишга қабул қилиш Ўзбекистон Республикаси Вазирлар Маҳкамаси тасдиқлаган Низомга мувофиқ танлов асосида амалга оширил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4869000"/>
            <a:ext cx="831852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к фаолият билан шуғулланиш суд ҳукмига асосан ман этилган шахсларнинг таълим муассасаларида бу фаолият билан шуғулланишига йўл қўйилмай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333000"/>
            <a:ext cx="82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дагогик фаолият билан шу</a:t>
            </a:r>
            <a:r>
              <a:rPr b="1" lang="uz-Cyrl-UZ" sz="3000" spc="-1" strike="noStrike">
                <a:solidFill>
                  <a:srgbClr val="ffffff"/>
                </a:solidFill>
                <a:latin typeface="Arial"/>
              </a:rPr>
              <a:t>ғулланиш ҳуқуқ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ОЛИЙ ТАЪЛИМ ПЕДАГОГ КАДРЛАРИГ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ҚЎЙИЛАДИГАН ТАЛАБЛА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муассасаси ўқитувчиси магистр даражасидан паст бўлмаган олий маълумотга эга бўлиши, илмий-тадқиқот фаолиятини олиб бориши 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ва қуйидагиларни билиши лозим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давлат таълим стандарти (асосий қоидалар), Кадрлар тайёрлашнинг тегишли таълим  йўналиши ва мутахассислиги бўйича давлат таълим стандарти, шунингдек, ўқитилаётган фан бўйича ўқув дастури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тўғрисидаги норматив - ҳуқуқий ва директив ҳужжатлар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35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йўналишлари ва магистратура ихтисослари бўйича ўқув жараёнини ташкил этиш ва унинг сифатини таъминлашнинг замонавий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режалари ва ўқув фанлари дастурларини такомиллаш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юкламаларини режалаштириш ва уларнинг бажарилишини назорат қил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фанлари мазмуни ва уларни ўқитишдаги изчиллик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ўқув машғулотларининг ҳар хил турларини (маърузалар, амалий машғулотлар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лар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лаборатория машғулотлари, курс ишларини) ўтказиш методикас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лабалар ўртасида миллий мустақиллик ғоялари асосида маънавий-ахлоқий ва тарбиявий ишларни олиб бориш принцип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дагогика ва касб-ҳунар бўйича муомала қилиш назарияси ва амалиё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ълим жараёни қатнашчилари билан ўзаро муносабатларда этика нормалари ва нутқ мадания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ет тиллардан биттасида сўзлашув нутқи асос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стақил таълим олиш йўли билан ўз билимларини такомиллаштир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да танқидий фикрлашни шакллан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ва магистратура таълим дастурларида изчиллик ва мослашувчанлик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буюртмачилари ва меҳнат бозори эҳтиёжларини ҳисобга олган ҳолда ўқув режаларини ва фан дастурларини шакллантир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ўз билимини мустақил ошириши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11280" y="765000"/>
            <a:ext cx="8137440" cy="5040360"/>
          </a:xfrm>
          <a:prstGeom prst="flowChartMultidocumen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ҳуқуқий ҳужж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 бу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матив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ҳуқуқий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хужжатлар тўғрисидаги 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ун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вофиқ қабул қилинган, умуммажбур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лат кўрсатмалари сифатида ҳуқуқ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арни белгилашга, ўзгартиришга ё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ор қилишга қаратилган расмий ҳужжатд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4120" y="5095800"/>
            <a:ext cx="2009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билимлари, маҳоратлари ва кўникмаларини рейтинг бўйича назорат қилишни ташкил этиш ва илмий-методик таъминла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тайёрлаш сифатига таъсир кўрсатадиган омиллар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, фан ва ишлаб чиқаришни интеграциялашни ташкил эт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қтидорли талабаларни қидириб топиш, танлаш ва улар билан ишла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ий таълимда менежмент ва маркетинг асослар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042920" y="4726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ҳуқуқий мақо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211860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юридик шахс бўлиб, қонун ҳужжатларида белгиланган тартибда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шк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ила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қонун ҳужжатларига мувофиқ ишлаб чиқилган устав асосида фаолият кўрсат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лари уставда белгиланган вазифаларига мувофиқ пулли таълим хизматлари кўрсатиш, шунингдек, тадбиркорлик фаолиятининг бошқа турлари билан шуғулланишга ҳақ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1280" y="1257480"/>
            <a:ext cx="820872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лаpи уставини ишлаб чи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РТИБ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азирлар Маҳкамасинин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998 йил 5 январдаги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-сон қаpоpиг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илова сифатида тасдиқланган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азкур Тартибга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зирлар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ҳкамасининг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20.06.2011 й. 183-сон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Қарорига мувофиқ ўзгартиришлар киритилга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71640" y="6897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СТАВНИНГ ТУЗИЛИ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20232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умий қоидала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 муассасасининг мақсад ва вазифалаp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олувчила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ва илмий-услубий 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м муассаса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,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ходим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га рахбарлик к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моат ташкило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-мулки ва мабл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0.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та ташкил этиш ва тугат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тарти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755640" y="549360"/>
            <a:ext cx="770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ат таълим стандарт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242100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 умумий ўрта, ўрта махсус, касб-ҳунар ва олий таълим мазмунига ҳамда сифатига қўйиладиган талабларни белгилай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ни бажариш Ўзбекистон Республикасининг барча таълим муассасалари учун мажбурийд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547640" y="54936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тизи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1773360"/>
            <a:ext cx="83516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авлат стандартларига мувофиқ таълим дастурларини амалга оширувчи давлат ва нодавлат таълим муассасалари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тизимининг фаолият кўрсатиши ва ривожланишини таъминлаш учун зарур бўлган тадқиқот ишларини бажарувчи илмий-педагогик муассасалар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соҳасидаги давлат бошқарув органлари, шунингдек, уларга қарашли корхоналар, муассасалар ва ташкилотлар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Ўзбекистон Республикасида таълим </a:t>
            </a:r>
            <a:r>
              <a:rPr b="0" lang="uz-Cyrl-UZ" sz="4000" spc="-1" strike="noStrike">
                <a:solidFill>
                  <a:srgbClr val="ffffff"/>
                </a:solidFill>
                <a:latin typeface="Arial"/>
              </a:rPr>
              <a:t>турла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гач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умий ўрт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ўрта махсус, касб-ҳунар таъли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ўқув юртидан кейинги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дрлар малакасини ошириш ва уларни қайта тайёрлаш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дан ташқари таъл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 тўғрисидаги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ҳужжат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редитация қилинган таълим муассасаларининг битирувчиларига давлат томонидан тасдиқланган намунадаги маълумот тўғрисидаги ҳужжат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берилад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п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ртифик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оҳно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00000" y="404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ЪЛИМ ЖАРАЁНИ ҚАТНАШЧИЛАРИНИ ИЖТИМОИЙ ҲИМОЯ Қ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1628640"/>
            <a:ext cx="6913440" cy="719280"/>
          </a:xfrm>
          <a:prstGeom prst="wedgeRoundRectCallout">
            <a:avLst>
              <a:gd name="adj1" fmla="val -43754"/>
              <a:gd name="adj2" fmla="val 16226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Таълим олувчиларни ижтимоий ҳимоя қил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2637000"/>
            <a:ext cx="6913800" cy="792000"/>
          </a:xfrm>
          <a:prstGeom prst="wedgeRoundRectCallout">
            <a:avLst>
              <a:gd name="adj1" fmla="val -43754"/>
              <a:gd name="adj2" fmla="val 10120"/>
              <a:gd name="adj3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аълим муассасалари ходимларини ижтимоий ҳимоя қили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3645000"/>
            <a:ext cx="6913440" cy="1152360"/>
          </a:xfrm>
          <a:prstGeom prst="wedgeRoundRectCallout">
            <a:avLst>
              <a:gd name="adj1" fmla="val -43754"/>
              <a:gd name="adj2" fmla="val 3856"/>
              <a:gd name="adj3" fmla="val 16667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Етим болаларни ва ота-оналарининг ёки бошқа қонуний вакилларининг васийлигисиз қолган болаларни ўқит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5013360"/>
            <a:ext cx="6913800" cy="1008000"/>
          </a:xfrm>
          <a:prstGeom prst="wedgeRoundRectCallout">
            <a:avLst>
              <a:gd name="adj1" fmla="val -42722"/>
              <a:gd name="adj2" fmla="val 68740"/>
              <a:gd name="adj3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смоний ёки руҳий ривожланишида нуқсони бўлган болалар ва ўсмирларни ўқити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95280" y="2366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2349360"/>
            <a:ext cx="820908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ОЛИЙ ТАЪЛИМ ТИЗИМИНИ БОШҚАРИШ ВАЗИРЛАР МАҲКАМАСИ ВА ТАЪЛИМНИ БОШҚАРИШ БЎЙИЧА ВАКОЛАТЛИ ДАВЛАТ ИДОРАСИ ТОМОНИДАН АМАЛГА ОШИРИЛ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1280" y="41256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ҳуқуқий ҳужжатлар қабул қили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ҳуқуқига эга бўлган органлар ёки мансабдор шахс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3295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Олий Мажлисининг палата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Президент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Вазирлар Маҳкамас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ирликлар, давлат қўмиталари ва идоралар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ҳаллий давлат ҳокимияти орган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64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Ўзбекистон Республикас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азирлар Ма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масининг таълим со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 ягона давлат сиёсатини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ги давлат бош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руви органларига раҳбарлик 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л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ни ривожлантириш дастурларини ишлаб чиқиш ва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ташкил этиш, қайта ташкил этиш ва тугат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аккредитациядан, педагог, илмий кадрларни аттестациядан ўтказ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шқа давлатларнинг таълим муассасаларига Ўзбекистон Республикасининг ҳудудида таълим фаолияти билан шуғулланиш ҳуқуқини берувчи рухсатномалар бе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хорижий давлатларнинг таълим тўғрисидаги ҳужжатларини тан олиш ва ҳужжатларнинг эквивалент эканлигини қайд этиш тартибини белгилаш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аълим стандартларини тасдиқ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омонидан тасдиқланган намунадаги маълумот тўғрисидаги ҳужжатларни тасдиқлаш ва уларни бер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грантлари миқдори ва таълим муассасаларига қабул қил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олий таълим муассасасининг ректорларини тайин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ълим олувчиларни аккредитация қилинган бир таълим муассасасидан бошқасига ўтказ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бошқа ваколатл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50920" y="357480"/>
            <a:ext cx="842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Таълимни бошқариш бўйича махсус ваколат берилган давлат органларинин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ҳуқуқ доирасиг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1753920"/>
            <a:ext cx="834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соҳасида ягона давлат сиёсатини рўёбга чиқар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муассасалари фаолиятини мувофиқлаштириш ва услубий масалаларда уларга раҳбарлик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Д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влат таълим стандартлари, мутахассисларнинг билим савияси ва касб тайёргарлигига бўлган талаблар бажарилишини таъмин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Ў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қув ва ўқув-услубий адабиётларини нашр этишни ташкил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95280" y="4608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5.Ўқитишнинг илғор шакллари ва педагогик технологияларни, таълимнинг техник ва ахборот воситаларини ўқув жараёни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6.Таълим олувчиларнинг якуний давлат аттестацияси ва  экстернат тўғрисидаги низомларини тасдиқ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7.Давлат олий таълим муассасасининг ректорини тайинлаш тўғрисида Вазирлар Маҳкамасига таклифлар кири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8.Педагог ходимларни тайёрлашни, уларнинг малакасини оширишни ва қайта тайёрлашни ташкил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9.Қонун ҳужжатларига мувофиқ бошқа ваколат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33360" y="3924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Маҳаллий давлат ҳокимияти органларининг таълим соҳ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527840"/>
            <a:ext cx="8351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1.Таълим муассасалари фаолиятининг минтақаларни ижтимоий-иқтисодий ривожлантириш эҳтиёжларига мувофиқлигини таъмин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Таълим муассасаларини ташкил этиш, қайта ташкил этиш ва тугатиш  уларнинг уставларини рўйхатга о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Ўз ҳудудларидаги таълим муассасаларини ваколат доирасида молиялаш миқдорларини ва имтиёзларни белги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Таълим сифати ва даражасига, шунингдек, педагог ходимларнинг касб фаолиятига бўлган давлат талабларига риоя этилишини таъминлаш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5.Қонун ҳужжатларига мувофиқ бошқа ваколатлар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68360" y="2527920"/>
            <a:ext cx="7201440" cy="302256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Вояга етмаган болаларнинг ота-оналари ёки қонуний вакиллари боланинг қонуний ҳуқуқлари ва манфаатларини ҳимоя қилишлари шарт эканлиги ҳамда уларнинг тарбияси, мактабгача, умумий ўрта, ўрта махсус, касб-ҳунар таълими олишлари учун жавобгар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с двумя скругленными противолежащими углами 14"/>
          <p:cNvSpPr/>
          <p:nvPr/>
        </p:nvSpPr>
        <p:spPr>
          <a:xfrm>
            <a:off x="684360" y="260280"/>
            <a:ext cx="8135640" cy="129708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-оналар ёки қонуний вакиллар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нинг вазифалар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Таълимни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молияла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1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Бюджетдан ташқари маблағлар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Маҳаллий бюджетлар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2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Республика бюджети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2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с двумя скругленными противолежащими углами 13"/>
          <p:cNvSpPr/>
          <p:nvPr/>
        </p:nvSpPr>
        <p:spPr>
          <a:xfrm>
            <a:off x="684360" y="2781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ни ривожлантириш фондлари қонун ҳужжатларида белгиланган тартибда юридик ва жисмоний шахслар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хтиёрий бадалларидан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с двумя скругленными противолежащими углами 14"/>
          <p:cNvSpPr/>
          <p:nvPr/>
        </p:nvSpPr>
        <p:spPr>
          <a:xfrm>
            <a:off x="684360" y="4797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Чет эллик юридик ва жисмоний шахсларнинг ихтиёрий бадаллари ҳисобидан ташкил этилиши мумк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Заголовок 2"/>
          <p:cNvSpPr/>
          <p:nvPr/>
        </p:nvSpPr>
        <p:spPr>
          <a:xfrm>
            <a:off x="684360" y="476280"/>
            <a:ext cx="803268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ни ривожлантириш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ондлари</a:t>
            </a:r>
            <a:r>
              <a:rPr b="1" i="1" lang="uz-Cyrl-UZ" sz="36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лқаро ҳамкорл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3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Қонун ҳужжатларида белгиланган тартибда улар билан қўшма ўқув юртлари ташкил этиш ҳуқуқига эга экан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3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Хорижий мамлакатларнинг тегишли ўқув юртлари билан бевосита алоқалар ўрнатиш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Таълим муассасалари таълим муаммолари юзасидан халқаро ҳамкорликда иштирок этишлар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8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аълим тўғрисидаги қонун ҳужжатларини</a:t>
            </a:r>
            <a:br>
              <a:rPr sz="2800"/>
            </a:b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бузганлик учун жавобгарлик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Скругленный прямоугольник 4"/>
          <p:cNvGrpSpPr/>
          <p:nvPr/>
        </p:nvGrpSpPr>
        <p:grpSpPr>
          <a:xfrm>
            <a:off x="2157480" y="5224320"/>
            <a:ext cx="6754680" cy="1000440"/>
            <a:chOff x="2157480" y="5224320"/>
            <a:chExt cx="6754680" cy="1000440"/>
          </a:xfrm>
        </p:grpSpPr>
        <p:pic>
          <p:nvPicPr>
            <p:cNvPr id="54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224320"/>
              <a:ext cx="675468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255760" y="5327640"/>
              <a:ext cx="65692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Жино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546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аъмур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549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оддий жавобгарли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552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Интизом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4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7"/>
          <a:stretch/>
        </p:blipFill>
        <p:spPr>
          <a:xfrm>
            <a:off x="571680" y="5357880"/>
            <a:ext cx="1307880" cy="546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6920" y="404640"/>
            <a:ext cx="7705800" cy="1099440"/>
          </a:xfrm>
          <a:prstGeom prst="rect">
            <a:avLst/>
          </a:prstGeom>
          <a:noFill/>
          <a:ln w="28440">
            <a:solidFill>
              <a:srgbClr val="192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-ҳуқуқий ҳужжатларини давлат рўйхатидан ўтказиш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916280"/>
            <a:ext cx="8209080" cy="4435560"/>
          </a:xfrm>
          <a:prstGeom prst="rect">
            <a:avLst/>
          </a:prstGeom>
          <a:noFill/>
          <a:ln w="93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 норматив-ҳуқуқий ҳужжатлар қабул қилинган кундан эътиборан ўн кун ичида уларни давлат рўйхатидан ўтказиш учун Ўзбекистон Республикаси Адлия вазирлигига тақдим эт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давлат рўйхатидан ўтказилмаган норматив-ҳуқуқий ҳужжатлари тегишли ижтимоий муносабатларни ҳуқуқий жиҳатдан тартибга солиш учун асос бўлиб хизмат қилиши мумкин эмас ва ҳуқуқий оқибатларга олиб келмай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мансабдор шахслари давлат рўйхатидан ўтказилмаган норматив-ҳуқуқий ҳужжатларни амалга киритганлик учун маъмурий жавобгарликка тортил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306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84360" y="46188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лохаза юритиш учун савол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1280" y="3575160"/>
            <a:ext cx="8207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тўғрисидаги Қонунда таълим сифати тушунчаси берилганми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ОТМда т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ълим сифатини таъминлаш нималарга боғлиқ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сифати деганда нимани тушунасиз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Сиз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шл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ётган ОТМда таъли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сифатини таъминлаш учун нималар қилиш керак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11280" y="2492280"/>
            <a:ext cx="8064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ДРЛАР ТАЙЁРЛ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ИЛЛИЙ ДАСТУ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Ўзбекистон Республикас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лий Мажлисининг Ахборотномас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97 й., 11-12-сон, 295-модда;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3" name="Picture 5" descr="C:\Users\Латыпов\Desktop\gerb.gif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39640" y="608760"/>
            <a:ext cx="83534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дрлар тайёрлаш миллий дасту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ллий тажрибанинг таҳлили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ълим тизимидаги жаҳон миқёсидаги ютуқлар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Ю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сак умумий ва касб-ҳунар маданиятиг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одий ва ижтимоий фаолликк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тимоий-сиёсий ҳаётда мустақил равишда мўлжални тўғри ола билиш маҳоратига эга бўлган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иқбол вазифаларини илгари суриш ва ҳал этишга қодир кадрларнинг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янги авлодини шакллантиришга йўналтирилганд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3"/>
          <p:cNvSpPr/>
          <p:nvPr/>
        </p:nvSpPr>
        <p:spPr>
          <a:xfrm>
            <a:off x="250920" y="2205000"/>
            <a:ext cx="8713800" cy="3600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ълим соҳасини тубдан ислоҳ қилиш, уни ўтмишд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қолган мафкуравий қарашлар ва сарқитлардан тў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ос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иш, ривожланган демократик давлатл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аражасида, юксак маънавий ва ахлоқий талабларг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воб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ерувчи юқори малакали кадрлар тайёрлаш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иллий тизимини яратишди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TextBox 3"/>
          <p:cNvGrpSpPr/>
          <p:nvPr/>
        </p:nvGrpSpPr>
        <p:grpSpPr>
          <a:xfrm>
            <a:off x="971640" y="549360"/>
            <a:ext cx="7485120" cy="934920"/>
            <a:chOff x="971640" y="549360"/>
            <a:chExt cx="7485120" cy="934920"/>
          </a:xfrm>
        </p:grpSpPr>
        <p:pic>
          <p:nvPicPr>
            <p:cNvPr id="567" name="TextBox 3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4851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036800" y="630360"/>
              <a:ext cx="72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Arial"/>
                </a:rPr>
                <a:t>ДАСТУРНИНГ 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МАҚСАД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 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аълим тўғрисид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и Қонунга мувофиқ таълим тизимини ислоҳ қилиш, давлат ва нодавлат таълим муассасалари ҳамда таълим ва кадрлар тайёрлаш соҳасида рақобат муҳитини шакллантириш негизида таълим тизимини ягона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ўқув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лмий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шлаб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иқариш мажмуи сифатида изчил ривожлантиришни таъмин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Таълим ва кадрлар тайёрлаш тизимини жамиятда амалга оширилаётган янгиланиш, ривожланган демократик ҳуқуқий давлат қурилиши жараёнларига мос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Кадрлар тайёрлаш тизими муассасаларини юқори малакали мутахассислар билан таъминлаш, педагогик фаолиятнинг нуфузи ва ижтимоий мақомини кўтари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403280" y="47628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7b46d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СТУРНИНГ ВАЗИФАЛАРИ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7b46d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54936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Кадрлар тайёрлаш тизими ва мазмунини мамлакатнинг ижтимоий ва иқтисодий тараққиёти истиқболларидан, жамият эҳтиёжларидан, фан, маданият, техника ва технологиянинг замонавий ютуқларидан келиб чиққан ҳолда қайта қур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Таълим олувчиларни маънавий-ахлоқий тарбиялашнинг ва маърифий ишларнинг самарали шакллари ҳамда услубларини ишлаб чиқиш ва жорий э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6.Таълим ва кадрлар тайёрлаш, таълим муассасаларини аттестациядан ўтказиш ва аккредитация қилиш сифатига баҳо беришнинг холис тизимини жорий қи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7.Янги ижтимоий-иқтисодий шароитларда таълимнинг талаб қилинадиган даражаси ва сифатини, кадрлар тайёрлаш тизимининг амалда фаолият кўрсатиши ва барқарор ривожланишининг кафолатларини, устуворлигини таъминловчи норматив, моддий-техника ва ахборот базасини яра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68360" y="765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Таълим, фан ва ишлаб чиқар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марали интеграциялашувини таъминлаш, тайёрланаётган кадрларнинг миқдори ва сифатига нисбатан давлатнинг талабларини, шунингдек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давлат тузилмалари, корхоналар ва ташкилотларнинг буюртмаларини шакллантиришнинг механизмларини ишлаб чиқ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Узлуксиз таълим ва кадрлар тайёрлаш тизимига бюджетдан ташқари маблағлар, шу жумладан чет эл инвестициялари жалб этишнинг реал механизмларини ишлаб чиқиш ва амалиёт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Кадрлар тайёрлаш соҳасида ўзаро манфаатли халқаро ҳамкорликни ривожлантири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71640" y="189000"/>
            <a:ext cx="72673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СТУРНИ РЎЁБГА ЧИҚАРИ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СҚИЧ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5013360"/>
            <a:ext cx="8642160" cy="1191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Ч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5 ва ундан кейинги йиллар) тўпланган тажрибани таҳлил этиш ва умумлаштириш асосида, мамлакатни ижтимоий-иқтисодий ривожлантириш истиқболларига мувофиқ кадрлар тайёрлаш тизимини такомиллаштириш ва янада ривожлантир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789360"/>
            <a:ext cx="864216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КК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1 — 2005 йиллар) Миллий дастурни тўлиқ рўёбга чиқариш, меҳнат бозорининг ривожланиши ва реал ижтимоий-иқтисодий шароитларни ҳисобга олган ҳолда унга аниқликлар кири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2205000"/>
            <a:ext cx="864216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ИР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1997 — 2001 йиллар) мавжуд кадрлар тайёрлаш тизимининг ижобий салоҳиятини сақлаб қолиш асосида ушбу тизимни ислоҳ қилиш ва ривожлантириш учун ҳуқуқий, кадрлар жиҳатидан, илмий-услубий, молиявий-моддий шарт-шароитлар яра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50920" y="260280"/>
            <a:ext cx="8640720" cy="6336720"/>
            <a:chOff x="250920" y="260280"/>
            <a:chExt cx="8640720" cy="6336720"/>
          </a:xfrm>
        </p:grpSpPr>
        <p:cxnSp>
          <p:nvCxnSpPr>
            <p:cNvPr id="578" name="_s509956"/>
            <p:cNvCxnSpPr>
              <a:stCxn id="579" idx="1"/>
              <a:endCxn id="580" idx="2"/>
            </p:cNvCxnSpPr>
            <p:nvPr/>
          </p:nvCxnSpPr>
          <p:spPr>
            <a:xfrm rot="10800000">
              <a:off x="2842200" y="1004760"/>
              <a:ext cx="864720" cy="5219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1" name="_s509957"/>
            <p:cNvCxnSpPr>
              <a:stCxn id="582" idx="1"/>
              <a:endCxn id="580" idx="2"/>
            </p:cNvCxnSpPr>
            <p:nvPr/>
          </p:nvCxnSpPr>
          <p:spPr>
            <a:xfrm rot="10800000">
              <a:off x="2842200" y="1005480"/>
              <a:ext cx="864720" cy="4100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3" name="_s509958"/>
            <p:cNvCxnSpPr>
              <a:stCxn id="584" idx="1"/>
              <a:endCxn id="580" idx="2"/>
            </p:cNvCxnSpPr>
            <p:nvPr/>
          </p:nvCxnSpPr>
          <p:spPr>
            <a:xfrm rot="10800000">
              <a:off x="2842200" y="1004760"/>
              <a:ext cx="864720" cy="2982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509959"/>
            <p:cNvCxnSpPr>
              <a:stCxn id="586" idx="1"/>
              <a:endCxn id="580" idx="2"/>
            </p:cNvCxnSpPr>
            <p:nvPr/>
          </p:nvCxnSpPr>
          <p:spPr>
            <a:xfrm rot="10800000">
              <a:off x="2842200" y="1004760"/>
              <a:ext cx="864720" cy="186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509960"/>
            <p:cNvCxnSpPr>
              <a:stCxn id="588" idx="1"/>
              <a:endCxn id="580" idx="2"/>
            </p:cNvCxnSpPr>
            <p:nvPr/>
          </p:nvCxnSpPr>
          <p:spPr>
            <a:xfrm rot="10800000">
              <a:off x="2842200" y="1004760"/>
              <a:ext cx="864720" cy="74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0" name="_s509961"/>
            <p:cNvSpPr/>
            <p:nvPr/>
          </p:nvSpPr>
          <p:spPr>
            <a:xfrm>
              <a:off x="250920" y="260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Кадрлар тайёрлаш миллий моделининг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асосий таркибий қисмлари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509962"/>
            <p:cNvSpPr/>
            <p:nvPr/>
          </p:nvSpPr>
          <p:spPr>
            <a:xfrm>
              <a:off x="3707280" y="137844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Шахс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кадрлар тайёрлаш тизимининг б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субъекти ва объект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509963"/>
            <p:cNvSpPr/>
            <p:nvPr/>
          </p:nvSpPr>
          <p:spPr>
            <a:xfrm>
              <a:off x="3707280" y="24966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Давлат ва жамият</a:t>
              </a: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 -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 в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уларни қабул қилиб олишнинг кафиллари;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509964"/>
            <p:cNvSpPr/>
            <p:nvPr/>
          </p:nvSpPr>
          <p:spPr>
            <a:xfrm>
              <a:off x="3707280" y="361512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Узлуксиз таълим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малакали рақобатбард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нинг асос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_s509965"/>
            <p:cNvSpPr/>
            <p:nvPr/>
          </p:nvSpPr>
          <p:spPr>
            <a:xfrm>
              <a:off x="3707280" y="4733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Фан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- юқори малакали мутахассислар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тайёрловчи ва улардан фойдаланувчи</a:t>
              </a: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_s509966"/>
            <p:cNvSpPr/>
            <p:nvPr/>
          </p:nvSpPr>
          <p:spPr>
            <a:xfrm>
              <a:off x="3707280" y="58518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Ишлаб чиқариш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- кадрларга бўлган эҳтиёжни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уларнинг тайёргарлик сифа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а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 қўйиладига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талабларни белгиловч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2852640"/>
            <a:ext cx="785016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3933720"/>
            <a:ext cx="792000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В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5084640"/>
            <a:ext cx="78850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ЖОР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Заголовок 2"/>
          <p:cNvSpPr/>
          <p:nvPr/>
        </p:nvSpPr>
        <p:spPr>
          <a:xfrm>
            <a:off x="755640" y="692280"/>
            <a:ext cx="8032680" cy="100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400" spc="-1" strike="noStrike">
                <a:solidFill>
                  <a:srgbClr val="ffffff"/>
                </a:solidFill>
                <a:latin typeface="Arial"/>
              </a:rPr>
              <a:t>ҚОНУН ХУЖЖАТЛАР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250920" y="189000"/>
            <a:ext cx="8640720" cy="6408360"/>
            <a:chOff x="250920" y="189000"/>
            <a:chExt cx="8640720" cy="6408360"/>
          </a:xfrm>
        </p:grpSpPr>
        <p:cxnSp>
          <p:nvCxnSpPr>
            <p:cNvPr id="590" name="_s510980"/>
            <p:cNvCxnSpPr>
              <a:stCxn id="591" idx="1"/>
              <a:endCxn id="592" idx="2"/>
            </p:cNvCxnSpPr>
            <p:nvPr/>
          </p:nvCxnSpPr>
          <p:spPr>
            <a:xfrm rot="10800000">
              <a:off x="2842200" y="942120"/>
              <a:ext cx="864720" cy="527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3" name="_s510981"/>
            <p:cNvCxnSpPr>
              <a:stCxn id="594" idx="1"/>
              <a:endCxn id="592" idx="2"/>
            </p:cNvCxnSpPr>
            <p:nvPr/>
          </p:nvCxnSpPr>
          <p:spPr>
            <a:xfrm rot="10800000">
              <a:off x="2842200" y="942120"/>
              <a:ext cx="864720" cy="41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5" name="_s510982"/>
            <p:cNvCxnSpPr>
              <a:stCxn id="596" idx="1"/>
              <a:endCxn id="592" idx="2"/>
            </p:cNvCxnSpPr>
            <p:nvPr/>
          </p:nvCxnSpPr>
          <p:spPr>
            <a:xfrm rot="10800000">
              <a:off x="2842200" y="942120"/>
              <a:ext cx="864720" cy="301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7" name="_s510983"/>
            <p:cNvCxnSpPr>
              <a:stCxn id="598" idx="1"/>
              <a:endCxn id="592" idx="2"/>
            </p:cNvCxnSpPr>
            <p:nvPr/>
          </p:nvCxnSpPr>
          <p:spPr>
            <a:xfrm rot="10800000">
              <a:off x="2842200" y="942120"/>
              <a:ext cx="864720" cy="188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9" name="_s510984"/>
            <p:cNvCxnSpPr>
              <a:stCxn id="600" idx="1"/>
              <a:endCxn id="592" idx="2"/>
            </p:cNvCxnSpPr>
            <p:nvPr/>
          </p:nvCxnSpPr>
          <p:spPr>
            <a:xfrm rot="10800000">
              <a:off x="2842200" y="942120"/>
              <a:ext cx="864720" cy="75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2" name="_s510985"/>
            <p:cNvSpPr/>
            <p:nvPr/>
          </p:nvSpPr>
          <p:spPr>
            <a:xfrm>
              <a:off x="250920" y="1890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КАДРЛАР ТАЙЁРЛАШ ТИЗИМИН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ИВОЖЛАНТИРИШНИНГ АСОС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Й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ЛИШЛАРИ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510986"/>
            <p:cNvSpPr/>
            <p:nvPr/>
          </p:nvSpPr>
          <p:spPr>
            <a:xfrm>
              <a:off x="3707280" y="131976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ни таъминла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_s510987"/>
            <p:cNvSpPr/>
            <p:nvPr/>
          </p:nvSpPr>
          <p:spPr>
            <a:xfrm>
              <a:off x="3707280" y="2450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едагог ва илмий-педагог кадрлар тайёрлаш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қайта тайёрлаш ва уларни малакасини ошириш</a:t>
              </a:r>
              <a:r>
                <a:rPr b="0" lang="uz-Cyrl-UZ" sz="17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_s510988"/>
            <p:cNvSpPr/>
            <p:nvPr/>
          </p:nvSpPr>
          <p:spPr>
            <a:xfrm>
              <a:off x="3707280" y="358164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 жараёнини мазмунан ислоҳ қили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_s510989"/>
            <p:cNvSpPr/>
            <p:nvPr/>
          </p:nvSpPr>
          <p:spPr>
            <a:xfrm>
              <a:off x="3707280" y="47124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аънавий-ахлоқий тарбия ва маъриф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_s510990"/>
            <p:cNvSpPr/>
            <p:nvPr/>
          </p:nvSpPr>
          <p:spPr>
            <a:xfrm>
              <a:off x="3707280" y="5843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қтидорли болалар ва истеъдодли ё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95280" y="1052640"/>
            <a:ext cx="3600360" cy="2663640"/>
          </a:xfrm>
          <a:prstGeom prst="flowChartMagneticTap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1989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бошқари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8360" y="1052640"/>
            <a:ext cx="3529080" cy="2520720"/>
          </a:xfrm>
          <a:prstGeom prst="flowChartMagnetic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508720" y="1989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молияла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4221000"/>
            <a:ext cx="3240000" cy="2232360"/>
          </a:xfrm>
          <a:prstGeom prst="flowChartMagneticTap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472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Касб-ҳунар таълими сифатини назорат қилиш тизимини шакл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92720" y="4292640"/>
            <a:ext cx="3384720" cy="2232000"/>
          </a:xfrm>
          <a:prstGeom prst="flowChartMagneticTap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80000" y="501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Моддий техника таъмино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95280" y="333360"/>
            <a:ext cx="3672000" cy="1511280"/>
          </a:xfrm>
          <a:prstGeom prst="wedgeRoundRectCallout">
            <a:avLst>
              <a:gd name="adj1" fmla="val -55143"/>
              <a:gd name="adj2" fmla="val 5462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" y="2421000"/>
            <a:ext cx="3671640" cy="1584360"/>
          </a:xfrm>
          <a:prstGeom prst="wedgeRoundRectCallout">
            <a:avLst>
              <a:gd name="adj1" fmla="val -53157"/>
              <a:gd name="adj2" fmla="val 78856"/>
              <a:gd name="adj3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280" y="4653000"/>
            <a:ext cx="3888000" cy="1584360"/>
          </a:xfrm>
          <a:prstGeom prst="wedgeRoundRectCallout">
            <a:avLst>
              <a:gd name="adj1" fmla="val -48162"/>
              <a:gd name="adj2" fmla="val 71643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12000" y="189000"/>
            <a:ext cx="2952720" cy="1584360"/>
          </a:xfrm>
          <a:prstGeom prst="wedgeRoundRectCallout">
            <a:avLst>
              <a:gd name="adj1" fmla="val 38976"/>
              <a:gd name="adj2" fmla="val 73449"/>
              <a:gd name="adj3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27640" y="33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ан билан таълим жараёни алоқ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р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ни ри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2000" y="2349360"/>
            <a:ext cx="2952720" cy="1584360"/>
          </a:xfrm>
          <a:prstGeom prst="wedgeRoundRectCallout">
            <a:avLst>
              <a:gd name="adj1" fmla="val 40430"/>
              <a:gd name="adj2" fmla="val 72546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56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шлаб чиқа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риш ва таълим тиз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интеграциялашувини 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4508640"/>
            <a:ext cx="3097440" cy="1944720"/>
          </a:xfrm>
          <a:prstGeom prst="wedgeRoundRectCallout">
            <a:avLst>
              <a:gd name="adj1" fmla="val 38106"/>
              <a:gd name="adj2" fmla="val 65263"/>
              <a:gd name="adj3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2000" y="486900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ва кадрлар тайёрлаш сохасидаги халқаро ҳамкорлик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0920" y="4797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Таълим сохасида ижтимоий кафолотларни таъминлаш хамда бу сохани давлат томонидан қўллаб қувватлаш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278136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хизмати кўрсатиш бозорини ривожлан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620640"/>
            <a:ext cx="3311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тизимининг яхлит ахборот маконини вужудга кел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95280" y="2781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ЭЪТИБОРИНГИЗ УЧУ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РАҲМАТ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1042920" y="4508640"/>
            <a:ext cx="7056360" cy="0"/>
          </a:xfrm>
          <a:prstGeom prst="line">
            <a:avLst/>
          </a:prstGeom>
          <a:ln w="1260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5" descr="uz1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4"/>
          <p:cNvGrpSpPr/>
          <p:nvPr/>
        </p:nvGrpSpPr>
        <p:grpSpPr>
          <a:xfrm>
            <a:off x="395280" y="620640"/>
            <a:ext cx="8352720" cy="5472000"/>
            <a:chOff x="395280" y="620640"/>
            <a:chExt cx="8352720" cy="5472000"/>
          </a:xfrm>
        </p:grpSpPr>
        <p:grpSp>
          <p:nvGrpSpPr>
            <p:cNvPr id="386" name="Rectangle 5"/>
            <p:cNvGrpSpPr/>
            <p:nvPr/>
          </p:nvGrpSpPr>
          <p:grpSpPr>
            <a:xfrm>
              <a:off x="2813400" y="620640"/>
              <a:ext cx="3590280" cy="1256040"/>
              <a:chOff x="2813400" y="620640"/>
              <a:chExt cx="3590280" cy="1256040"/>
            </a:xfrm>
          </p:grpSpPr>
          <p:pic>
            <p:nvPicPr>
              <p:cNvPr id="387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3400" y="620640"/>
                <a:ext cx="359028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2874960" y="655200"/>
                <a:ext cx="347724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Қонуности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хужжатлари: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Rectangle 6"/>
            <p:cNvGrpSpPr/>
            <p:nvPr/>
          </p:nvGrpSpPr>
          <p:grpSpPr>
            <a:xfrm>
              <a:off x="395280" y="2821680"/>
              <a:ext cx="3589560" cy="1261800"/>
              <a:chOff x="395280" y="2821680"/>
              <a:chExt cx="3589560" cy="1261800"/>
            </a:xfrm>
          </p:grpSpPr>
          <p:pic>
            <p:nvPicPr>
              <p:cNvPr id="390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45432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Н</a:t>
                </a:r>
                <a:r>
                  <a:rPr b="0" i="1" lang="en-US" sz="28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Rectangle 7"/>
            <p:cNvGrpSpPr/>
            <p:nvPr/>
          </p:nvGrpSpPr>
          <p:grpSpPr>
            <a:xfrm>
              <a:off x="395280" y="4836600"/>
              <a:ext cx="3589560" cy="1256040"/>
              <a:chOff x="395280" y="4836600"/>
              <a:chExt cx="3589560" cy="1256040"/>
            </a:xfrm>
          </p:grpSpPr>
          <p:pic>
            <p:nvPicPr>
              <p:cNvPr id="39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454320" y="487368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Қ</a:t>
                </a:r>
                <a:r>
                  <a:rPr b="1" i="1" lang="ru-RU" sz="2800" spc="-1" strike="noStrike">
                    <a:solidFill>
                      <a:srgbClr val="ffffff"/>
                    </a:solidFill>
                    <a:latin typeface="Arial"/>
                  </a:rPr>
                  <a:t>АРОР</a:t>
                </a:r>
                <a:r>
                  <a:rPr b="0" lang="ru-RU" sz="24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Rectangle 8"/>
            <p:cNvGrpSpPr/>
            <p:nvPr/>
          </p:nvGrpSpPr>
          <p:grpSpPr>
            <a:xfrm>
              <a:off x="5158440" y="4836600"/>
              <a:ext cx="3589560" cy="1256040"/>
              <a:chOff x="5158440" y="4836600"/>
              <a:chExt cx="3589560" cy="125604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5844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218200" y="487152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БУЙРУҚ</a:t>
                </a:r>
                <a:r>
                  <a:rPr b="0" i="1" lang="ru-RU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Rectangle 9"/>
            <p:cNvGrpSpPr/>
            <p:nvPr/>
          </p:nvGrpSpPr>
          <p:grpSpPr>
            <a:xfrm>
              <a:off x="5158440" y="2821680"/>
              <a:ext cx="3589560" cy="1261800"/>
              <a:chOff x="5158440" y="2821680"/>
              <a:chExt cx="3589560" cy="1261800"/>
            </a:xfrm>
          </p:grpSpPr>
          <p:pic>
            <p:nvPicPr>
              <p:cNvPr id="399" name="Rectangl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844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521820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ЙИШ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Line 10"/>
            <p:cNvSpPr/>
            <p:nvPr/>
          </p:nvSpPr>
          <p:spPr>
            <a:xfrm>
              <a:off x="4538520" y="1804680"/>
              <a:ext cx="0" cy="393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4538520" y="57373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 flipH="1">
              <a:off x="3933360" y="57373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H="1">
              <a:off x="3933360" y="34351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>
              <a:off x="4538520" y="34351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68360" y="29937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Қонун 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2. Фармон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3. Фармойиш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4. Қарор.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5. Буйруқ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"/>
          <p:cNvSpPr/>
          <p:nvPr/>
        </p:nvSpPr>
        <p:spPr>
          <a:xfrm>
            <a:off x="900000" y="476280"/>
            <a:ext cx="5472360" cy="936720"/>
          </a:xfrm>
          <a:prstGeom prst="horizontalScrol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0000"/>
                </a:solidFill>
                <a:latin typeface="Arial"/>
              </a:rPr>
              <a:t>С  А  В  О 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ятно 1 8"/>
          <p:cNvSpPr/>
          <p:nvPr/>
        </p:nvSpPr>
        <p:spPr>
          <a:xfrm>
            <a:off x="0" y="1500120"/>
            <a:ext cx="9144000" cy="5357880"/>
          </a:xfrm>
          <a:prstGeom prst="irregularSeal1">
            <a:avLst/>
          </a:prstGeom>
          <a:gradFill rotWithShape="0">
            <a:gsLst>
              <a:gs pos="0">
                <a:srgbClr val="a3eeff"/>
              </a:gs>
              <a:gs pos="100000">
                <a:srgbClr val="e5faff"/>
              </a:gs>
            </a:gsLst>
            <a:lin ang="16200000"/>
          </a:gradFill>
          <a:ln cap="rnd" w="6480">
            <a:solidFill>
              <a:srgbClr val="5bb2ca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ҳамат, кимдан эшитамиз</a:t>
            </a:r>
            <a:r>
              <a:rPr b="0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.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8388360" y="189000"/>
            <a:ext cx="4190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9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39:02Z</dcterms:created>
  <dc:creator>LORD</dc:creator>
  <dc:description/>
  <dc:language>en-US</dc:language>
  <cp:lastModifiedBy>User</cp:lastModifiedBy>
  <dcterms:modified xsi:type="dcterms:W3CDTF">2015-09-16T16:00:27Z</dcterms:modified>
  <cp:revision>248</cp:revision>
  <dc:subject/>
  <dc:title>Слайд 1</dc:title>
</cp:coreProperties>
</file>