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2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9.gif" ContentType="image/gif"/>
  <Override PartName="/ppt/media/image14.jpeg" ContentType="image/jpeg"/>
  <Override PartName="/ppt/media/image15.png" ContentType="image/png"/>
  <Override PartName="/ppt/media/image11.png" ContentType="image/png"/>
  <Override PartName="/ppt/media/coin.wav" ContentType="audio/x-wav"/>
  <Override PartName="/ppt/media/image23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1ED-C663-49EB-84EA-195B4747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1A3-C56D-4374-B4F0-EB98ECA3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E91-094C-4EA5-B253-E3355301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9E1-BF81-4115-91F7-FF98A3A0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D2C9-E4FB-4E0D-8840-8482030D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DCAF-889A-4F39-BE0A-9DB9DDEA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60C1-C93F-4E6F-B21A-54BF6F6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E227-CF53-40DF-BD0E-419582A1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42F8-1081-4E23-9BA1-C54F015C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3490-AC72-4432-A2F0-8E67D447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8D34-62DF-49DE-B79D-C7580F3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F09-9740-44DE-AAC7-7AF925F6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F648-68D4-44C6-B6A7-73D2AB0B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4567-46AD-4EAA-9D8F-FAB57291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80F-84D5-494A-8633-526AC598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BC4E-4675-43D0-925C-C132F154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6990-7D2D-4987-9466-019338EA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7564-4AC8-470D-AEB7-98957DD2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C089-E59E-474C-A917-2E32B4B7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241C-2427-4535-8A60-C2DB769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A4F9-5004-402F-8819-E28DEB97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D523-CAAA-4852-B63F-5E855D76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C2C-C431-4128-A9FB-D6E698D2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8F2C-F415-4E1F-8C4E-FD21F314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A847-20C2-47BF-A0DA-F2E7EBD3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0391-0102-4E92-A06D-F1EC320F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2135C-0EC2-443E-9EB3-791A0CC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E804-02BB-413D-A7EF-C8A4D83C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DD75-1C03-4DBC-A213-3DE6291D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989B-9136-41E2-A9F5-8AC5D81D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5597-9199-47B2-B6E1-B4CD4675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6D7B-71B9-4C7F-8529-AC3CE74B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251B-5C2A-4B6E-9A11-CF9BD26C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A61-8FEC-4917-A194-A26BF3EE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8501-B450-4DC5-A149-96C6C3B6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5C03-706F-48F9-97CF-D9C08F8B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AE58D-ECAC-42BB-B9F5-6A63F8EB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EF4FD-B9F3-41C2-895C-737B8CB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405D-3E13-460D-90A2-C09908A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11457-04F7-4E5D-AD8C-6555DEE5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DE7D-B575-4808-984B-DA427E52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858E-B980-4260-A710-277529F5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99C3-53AD-4238-BF98-D2DBE2DD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C9E6-D181-4384-A852-125990C0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3A8-DB46-4FCE-BF8D-0DE8E762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A405-28C4-4422-A0AF-63B2A32B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FA8E-7860-4578-AA2E-35EA0A98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1028F-6385-4CD8-B095-0920977F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5AF6F-EFCB-4BD4-93C7-5F541159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ED0E5-E4A3-40F4-9B9E-71445C6E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6F18F-D977-4787-8107-0B4F4DE5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81AC-4EA0-49ED-823D-CF6CE05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3FC60-18AE-4E42-84AF-F2E3AE34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E04A8-5B10-428F-BF35-E3BE353F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40429-6443-4F9E-9D89-050CD6A7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738-4688-445D-A6B6-53BC442E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B3D9E-432C-4BFC-BFF2-2C7C5F9A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0C4C-C787-4D84-A6D4-0684CDA5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A866-0A0C-4F2A-ACCA-68C8600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820D-5184-4A58-9113-AC34776A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F4A1E-00AA-4BFB-AFD3-9F93EDE2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27266-692B-4EDA-A1BC-7925D96E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F09CD-342E-47C8-A56B-C8CA342C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2CB5B-7F50-47E6-A9B8-7566D5F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8A17A-F484-4607-966C-37C6C007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CBC91-2552-4506-ABA5-EAE2901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967-85E8-469E-B7B6-ABCF0DE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18D14-3A98-49E1-A3FD-A06D0AEB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98477-6C66-4CB8-9BD3-9696F8D0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853D3-B993-4CC1-B483-5C64BCE8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B24-36B4-4419-939E-082BA263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F18-5466-41D0-8E19-EB2594B4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C2A-F471-456D-AD34-58B3C4C351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8E19-A8A8-4056-A42C-CF638ABFAB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9D40-103F-4945-BA01-FD80246995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D490-90F9-4AA4-A22A-8C8572AABC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6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38EB-00AA-4C11-88D9-D7534846B0D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1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1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2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6019-C242-42F7-8238-25620C3159D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mailto:vtopildiev@mail.ru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4" descr="images_38[1].jpg"/>
          <p:cNvPicPr/>
          <p:nvPr/>
        </p:nvPicPr>
        <p:blipFill>
          <a:blip r:embed="rId1"/>
          <a:stretch/>
        </p:blipFill>
        <p:spPr>
          <a:xfrm>
            <a:off x="291960" y="-133200"/>
            <a:ext cx="7712280" cy="2138040"/>
          </a:xfrm>
          <a:prstGeom prst="rect">
            <a:avLst/>
          </a:prstGeom>
          <a:ln w="0">
            <a:noFill/>
          </a:ln>
        </p:spPr>
      </p:pic>
      <p:sp>
        <p:nvSpPr>
          <p:cNvPr id="368" name="Oval 9"/>
          <p:cNvSpPr/>
          <p:nvPr/>
        </p:nvSpPr>
        <p:spPr>
          <a:xfrm>
            <a:off x="7858080" y="285840"/>
            <a:ext cx="1143000" cy="107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2699640"/>
            <a:ext cx="820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500" spc="-1" strike="noStrike">
                <a:solidFill>
                  <a:srgbClr val="008000"/>
                </a:solidFill>
                <a:latin typeface="Arial"/>
              </a:rPr>
              <a:t>ТАЪЛИМ ВА ТАРБИЯ ЖАРАЁНЛАРИНИ ТАШКИЛ ЭТИШНИНГ  Қ</a:t>
            </a:r>
            <a:r>
              <a:rPr b="1" i="1" lang="ru-RU" sz="3500" spc="-1" strike="noStrike">
                <a:solidFill>
                  <a:srgbClr val="008000"/>
                </a:solidFill>
                <a:latin typeface="Arial"/>
              </a:rPr>
              <a:t>ОНУН ХУЖЖАТЛАР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530064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</a:t>
            </a:r>
            <a:r>
              <a:rPr b="1" lang="uz-Cyrl-UZ" sz="2000" spc="-1" strike="noStrike">
                <a:solidFill>
                  <a:srgbClr val="ffffff"/>
                </a:solidFill>
                <a:latin typeface="Tahoma"/>
              </a:rPr>
              <a:t>.ф.н., доцент  В.Р.Топилди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vtopildiev@ma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4"/>
          <p:cNvSpPr/>
          <p:nvPr/>
        </p:nvSpPr>
        <p:spPr>
          <a:xfrm>
            <a:off x="324000" y="1628640"/>
            <a:ext cx="853416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онун</a:t>
            </a: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Ўзбекистон Республикасида энг муҳим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барқарор  ижтимоий муносабатларни тартиб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соладиган, Ўзбекистон Республикаси О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томонидан ёки референдум ўткази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йўли билан қабул қилинадиган олий юрид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учга эга бўл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4"/>
          <p:cNvSpPr/>
          <p:nvPr/>
        </p:nvSpPr>
        <p:spPr>
          <a:xfrm>
            <a:off x="324000" y="1628640"/>
            <a:ext cx="864072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н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давл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ошлиғи томонидан мамлакатимизда бир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ир сохада жуда катта ўзгаришларга оли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ладиган ўта мухим масалалар бўйи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 асосида ҳамда уларни ижр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этиш учун қабул 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4"/>
          <p:cNvSpPr/>
          <p:nvPr/>
        </p:nvSpPr>
        <p:spPr>
          <a:xfrm>
            <a:off x="395280" y="1628640"/>
            <a:ext cx="8534520" cy="34578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йиш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чиктириб бўлмай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тезда бажарилиши лоз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ўлг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салалар бўйича ваколатли давлат органла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ёки мансабдор шахслар томонидан қабу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4"/>
          <p:cNvSpPr/>
          <p:nvPr/>
        </p:nvSpPr>
        <p:spPr>
          <a:xfrm>
            <a:off x="0" y="1484280"/>
            <a:ext cx="9144000" cy="38880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арор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, Ўзбекистон Республикаси Ол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палаталарининг қарорлари, Ўзбекист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Республикаси Президентининг фармонла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арорлари ва фармойишлари асосида ҳам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уларни ижро этиш учун Ўзбекистон Республик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ар Маҳкамаси томонидан қабул қилина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/>
          <p:cNvSpPr/>
          <p:nvPr/>
        </p:nvSpPr>
        <p:spPr>
          <a:xfrm>
            <a:off x="0" y="1197000"/>
            <a:ext cx="9325080" cy="4537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Буйруқ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идоралар, корхоналар ва ташкилотлар томонид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онунлари, Ўзбекистон Республикаси Олий Мажли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алаталарининг қарорлари, 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резидентининг фармонлари, қарорлар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фармойишлари, Ўзбекистон Республикаси Вазирл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ҳкамасининг қарорлари ва фармойиш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асосида ҳамда уларни ижро этиш учун қаб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55640" y="404640"/>
            <a:ext cx="784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ва тарбия жараёнларин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ҳуқуқий асослар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220500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1.Ўзбекистон Республикасининг Конституцияс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682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2.Ўзбекистон Республикасининг “Таълим тўғрисида”ги Қону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3.Кадрлар тайёрлаш Миллий Дас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Ўзбекистон Республикаси Президентининг фармонлари, фармойишлари,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5.Ўзбекистон Республикаси Вазирлар Махкамасининг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хсус ваколатли давлат органлар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нинг буйруқ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067280" y="2001960"/>
            <a:ext cx="48974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вало, барчамиз бир ҳақиқатни англаб, тушуниб бормоқдамиз – бугун жамиятимизда қандай ютуқ ва марраларга эришаётган бўлсак, буларнинг пойдеворида Конституциямиз, буюк ҳаёт қомусимиз турибд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Tahoma"/>
              </a:rPr>
              <a:t>И.А.Карим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851280" cy="3546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179280" y="260280"/>
            <a:ext cx="8964720" cy="1197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D:\temur's documents\rasmlar temur\dars uchun\konstitutsiya.jpg"/>
          <p:cNvPicPr/>
          <p:nvPr/>
        </p:nvPicPr>
        <p:blipFill>
          <a:blip r:embed="rId3"/>
          <a:stretch/>
        </p:blipFill>
        <p:spPr>
          <a:xfrm>
            <a:off x="0" y="1700280"/>
            <a:ext cx="399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5357880" cy="230508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Конституция» тушунчаси лотинча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tityti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 сўзидан келиб чиққан бўлиб, ўрнатиш жорий этиш маъносини билдиради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5D6A-C456-4AD1-AC23-D50F2EB0B2E3}" type="slidenum">
              <a:rPr b="0" lang="en-US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 rot="1617600">
            <a:off x="6372000" y="1557000"/>
            <a:ext cx="2092320" cy="265428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3789360"/>
            <a:ext cx="5113440" cy="230364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унёдаги илк Конституция -1787 йилдаги АҚШнинг Конституцияси б</a:t>
            </a:r>
            <a:r>
              <a:rPr b="0" lang="uz-Cyrl-UZ" sz="2800" spc="-1" strike="noStrike">
                <a:solidFill>
                  <a:srgbClr val="0000ff"/>
                </a:solidFill>
                <a:latin typeface="Arial"/>
                <a:ea typeface="Arial"/>
              </a:rPr>
              <a:t>ўлиб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у шу кунгача амал қилиб келмоқ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5F6A-1C4F-416A-83B6-6AD524ACE2C4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 rot="1963200">
            <a:off x="7164000" y="980640"/>
            <a:ext cx="1419120" cy="1800360"/>
          </a:xfrm>
          <a:prstGeom prst="rect">
            <a:avLst/>
          </a:prstGeom>
          <a:ln w="0">
            <a:noFill/>
          </a:ln>
        </p:spPr>
      </p:pic>
      <p:sp>
        <p:nvSpPr>
          <p:cNvPr id="429" name="Заголовок 1"/>
          <p:cNvSpPr/>
          <p:nvPr/>
        </p:nvSpPr>
        <p:spPr>
          <a:xfrm>
            <a:off x="900000" y="2602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ЎЗБЕКИСТОН РЕСПУБЛИКАСИ КОНСТИТУЦИЯ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Diagram 7"/>
          <p:cNvGrpSpPr/>
          <p:nvPr/>
        </p:nvGrpSpPr>
        <p:grpSpPr>
          <a:xfrm>
            <a:off x="395280" y="1341360"/>
            <a:ext cx="8497440" cy="5230080"/>
            <a:chOff x="395280" y="1341360"/>
            <a:chExt cx="8497440" cy="5230080"/>
          </a:xfrm>
        </p:grpSpPr>
        <p:pic>
          <p:nvPicPr>
            <p:cNvPr id="431" name="Схема 7" descr=""/>
            <p:cNvPicPr/>
            <p:nvPr/>
          </p:nvPicPr>
          <p:blipFill>
            <a:blip r:embed="rId2"/>
            <a:stretch/>
          </p:blipFill>
          <p:spPr>
            <a:xfrm>
              <a:off x="395280" y="1532160"/>
              <a:ext cx="8497440" cy="50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Picture 13"/>
            <p:cNvSpPr/>
            <p:nvPr/>
          </p:nvSpPr>
          <p:spPr>
            <a:xfrm>
              <a:off x="538560" y="1341360"/>
              <a:ext cx="1980000" cy="13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Picture 5" descr="uz1"/>
          <p:cNvPicPr/>
          <p:nvPr/>
        </p:nvPicPr>
        <p:blipFill>
          <a:blip r:embed="rId3"/>
          <a:stretch/>
        </p:blipFill>
        <p:spPr>
          <a:xfrm>
            <a:off x="826920" y="1357200"/>
            <a:ext cx="2030760" cy="123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E2D9-3A8B-475C-BD95-7F89A30BBD59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Organization Chart 68"/>
          <p:cNvGrpSpPr/>
          <p:nvPr/>
        </p:nvGrpSpPr>
        <p:grpSpPr>
          <a:xfrm>
            <a:off x="324000" y="78480"/>
            <a:ext cx="8424720" cy="6523560"/>
            <a:chOff x="324000" y="78480"/>
            <a:chExt cx="8424720" cy="6523560"/>
          </a:xfrm>
        </p:grpSpPr>
        <p:pic>
          <p:nvPicPr>
            <p:cNvPr id="436" name="Схема 6" descr="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8424720" cy="62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Picture 82"/>
            <p:cNvSpPr/>
            <p:nvPr/>
          </p:nvSpPr>
          <p:spPr>
            <a:xfrm rot="1963800">
              <a:off x="6419880" y="340920"/>
              <a:ext cx="154260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Picture 83"/>
            <p:cNvSpPr/>
            <p:nvPr/>
          </p:nvSpPr>
          <p:spPr>
            <a:xfrm>
              <a:off x="731160" y="340920"/>
              <a:ext cx="218376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9" name="Picture 5" descr="uz1"/>
          <p:cNvPicPr/>
          <p:nvPr/>
        </p:nvPicPr>
        <p:blipFill>
          <a:blip r:embed="rId2"/>
          <a:stretch/>
        </p:blipFill>
        <p:spPr>
          <a:xfrm>
            <a:off x="900000" y="642960"/>
            <a:ext cx="2473560" cy="114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 rot="1963200">
            <a:off x="6573960" y="659880"/>
            <a:ext cx="136512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140360" y="2349360"/>
            <a:ext cx="482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таълим тизимида таълим ва тарбиянинг узвий равишда олиб борилиши нафақат мамлакатнинг интеллектуал жиҳатдан юксалишига, шунингдек, маънавий баркамол бўлишини ҳа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таъминлайди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.А.Кари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995640" cy="4581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9640" y="2349360"/>
            <a:ext cx="8209080" cy="173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Ўзбекистон Республик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аълим тўғрисида”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Қону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Rectangle 3"/>
          <p:cNvGrpSpPr/>
          <p:nvPr/>
        </p:nvGrpSpPr>
        <p:grpSpPr>
          <a:xfrm>
            <a:off x="395280" y="2128680"/>
            <a:ext cx="8424360" cy="4483080"/>
            <a:chOff x="395280" y="2128680"/>
            <a:chExt cx="8424360" cy="448308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395280" y="2417400"/>
              <a:ext cx="842436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30280" y="2128680"/>
              <a:ext cx="8231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Умумий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қ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идалар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ва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урлар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 жараёни қатнашчиларини ижтимоий химоя қил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ни бошқар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Якунловчи қоидала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Rectangle 2"/>
          <p:cNvGrpSpPr/>
          <p:nvPr/>
        </p:nvGrpSpPr>
        <p:grpSpPr>
          <a:xfrm>
            <a:off x="684360" y="404640"/>
            <a:ext cx="8013240" cy="1511280"/>
            <a:chOff x="684360" y="404640"/>
            <a:chExt cx="8013240" cy="1511280"/>
          </a:xfrm>
        </p:grpSpPr>
        <p:pic>
          <p:nvPicPr>
            <p:cNvPr id="446" name="Rectangle 2" descr="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80132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60320" y="613440"/>
              <a:ext cx="7833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Таълим тўғрисида”ги қонуннинг тузилиш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ълим соҳасидаги давлат сиёсатининг асосий принциплари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Скругленный прямоугольник 4"/>
          <p:cNvGrpSpPr/>
          <p:nvPr/>
        </p:nvGrpSpPr>
        <p:grpSpPr>
          <a:xfrm>
            <a:off x="2195640" y="5157720"/>
            <a:ext cx="6754680" cy="1366560"/>
            <a:chOff x="2195640" y="5157720"/>
            <a:chExt cx="6754680" cy="1366560"/>
          </a:xfrm>
        </p:grpSpPr>
        <p:pic>
          <p:nvPicPr>
            <p:cNvPr id="45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95640" y="5157720"/>
              <a:ext cx="675468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293920" y="5298840"/>
              <a:ext cx="65692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та махсус, касб-ҳунар таълими йўналишини: академик лицейда ёки касб-ҳунар коллежида ўқишни танлашнинг ихтиё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45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мумий ўрта,</a:t>
              </a: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ўрта махсус, касб-ҳунар таълимининг мажбу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45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 ва изчил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45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 ва тарбиянинг инсонпарвар, демократик характерда эканлиги;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7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63840" y="591120"/>
            <a:ext cx="7979760" cy="778320"/>
          </a:xfrm>
          <a:prstGeom prst="rect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нинг дунёвий характерда экан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с двумя скругленными противолежащими углами 6"/>
          <p:cNvSpPr/>
          <p:nvPr/>
        </p:nvSpPr>
        <p:spPr>
          <a:xfrm>
            <a:off x="539640" y="1773360"/>
            <a:ext cx="8158320" cy="100008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лат таълим стандартлари доирасида таълим олишнинг ҳамма учун очиқ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с двумя скругленными противолежащими углами 6"/>
          <p:cNvSpPr/>
          <p:nvPr/>
        </p:nvSpPr>
        <p:spPr>
          <a:xfrm>
            <a:off x="539640" y="2997360"/>
            <a:ext cx="8229600" cy="93636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дастурларини танлашга ягона ва табақалаштирилган ёндашу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с двумя скругленными противолежащими углами 6"/>
          <p:cNvSpPr/>
          <p:nvPr/>
        </p:nvSpPr>
        <p:spPr>
          <a:xfrm>
            <a:off x="539640" y="4221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мли бўлишни ва истеъдодни рағбатлантириш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с двумя скругленными противолежащими углами 6"/>
          <p:cNvSpPr/>
          <p:nvPr/>
        </p:nvSpPr>
        <p:spPr>
          <a:xfrm>
            <a:off x="539640" y="5445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да давлат ва жамоат бошқарувини уйғунлаштириш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00000" y="260280"/>
            <a:ext cx="7632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илим олиш ҳуқуқ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26828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1.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лат ва нодавлат таълим муассасаларини ривожлантир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2.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лаб чиқаришдан ажралган ва ажралмаган ҳолда таълим олишни ташкил э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3.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ълим ва кадрлар тайёрлаш давлат дастурлари асосида бепул ўқитиш, шунингдек, таълим муассасаларида шартнома асосида тўлов эвазига касб-ҳунар ўрга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ча турдаги таълим муассасаларининг битирувчилари кейинги босқичдаги ўқув юртларига киришда тенг ҳуқуқларга эга бўлиш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5.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ада ёки ўзи мустақил равишда билим олган фуқароларга аккредитациядан ўтган таълим муассасаларида экстернат тартибида аттестациядан ўтиш ҳуқуқини бериш орқали таъминлана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468360" y="1484280"/>
            <a:ext cx="8245440" cy="144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гишли маълумоти, касб тайёргарлиги бор ва юксак ахлоқий фазилатларга эга бўлган шахслар педагогик фаолият билан шуғулланиш ҳуқуқига э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468360" y="3141720"/>
            <a:ext cx="8316720" cy="158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ни олий ўқув юртларига ишга қабул қилиш Ўзбекистон Республикаси Вазирлар Маҳкамаси тасдиқлаган Низомга мувофиқ танлов асосида амалга оширил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4869000"/>
            <a:ext cx="831852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к фаолият билан шуғулланиш суд ҳукмига асосан ман этилган шахсларнинг таълим муассасаларида бу фаолият билан шуғулланишига йўл қўйилмай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333000"/>
            <a:ext cx="82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дагогик фаолият билан шу</a:t>
            </a:r>
            <a:r>
              <a:rPr b="1" lang="uz-Cyrl-UZ" sz="3000" spc="-1" strike="noStrike">
                <a:solidFill>
                  <a:srgbClr val="ffffff"/>
                </a:solidFill>
                <a:latin typeface="Arial"/>
              </a:rPr>
              <a:t>ғулланиш ҳуқуқ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ОЛИЙ ТАЪЛИМ ПЕДАГОГ КАДРЛАРИГ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ҚЎЙИЛАДИГАН ТАЛАБЛА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муассасаси ўқитувчиси магистр даражасидан паст бўлмаган олий маълумотга эга бўлиши, илмий-тадқиқот фаолиятини олиб бориши 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ва қуйидагиларни билиши лозим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давлат таълим стандарти (асосий қоидалар), Кадрлар тайёрлашнинг тегишли таълим  йўналиши ва мутахассислиги бўйича давлат таълим стандарти, шунингдек, ўқитилаётган фан бўйича ўқув дастури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тўғрисидаги норматив - ҳуқуқий ва директив ҳужжатлар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35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йўналишлари ва магистратура ихтисослари бўйича ўқув жараёнини ташкил этиш ва унинг сифатини таъминлашнинг замонавий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режалари ва ўқув фанлари дастурларини такомиллаш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юкламаларини режалаштириш ва уларнинг бажарилишини назорат қил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фанлари мазмуни ва уларни ўқитишдаги изчиллик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ўқув машғулотларининг ҳар хил турларини (маърузалар, амалий машғулотлар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лар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лаборатория машғулотлари, курс ишларини) ўтказиш методикас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лабалар ўртасида миллий мустақиллик ғоялари асосида маънавий-ахлоқий ва тарбиявий ишларни олиб бориш принцип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дагогика ва касб-ҳунар бўйича муомала қилиш назарияси ва амалиё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ълим жараёни қатнашчилари билан ўзаро муносабатларда этика нормалари ва нутқ мадания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ет тиллардан биттасида сўзлашув нутқи асос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стақил таълим олиш йўли билан ўз билимларини такомиллаштир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да танқидий фикрлашни шакллан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ва магистратура таълим дастурларида изчиллик ва мослашувчанлик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буюртмачилари ва меҳнат бозори эҳтиёжларини ҳисобга олган ҳолда ўқув режаларини ва фан дастурларини шакллантир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ўз билимини мустақил ошириши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11280" y="765000"/>
            <a:ext cx="8137440" cy="5040360"/>
          </a:xfrm>
          <a:prstGeom prst="flowChartMultidocumen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ҳуқуқий ҳужж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 бу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матив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ҳуқуқий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хужжатлар тўғрисидаги 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ун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вофиқ қабул қилинган, умуммажбур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лат кўрсатмалари сифатида ҳуқуқ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арни белгилашга, ўзгартиришга ё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ор қилишга қаратилган расмий ҳужжатд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4120" y="5095800"/>
            <a:ext cx="2009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билимлари, маҳоратлари ва кўникмаларини рейтинг бўйича назорат қилишни ташкил этиш ва илмий-методик таъминла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тайёрлаш сифатига таъсир кўрсатадиган омиллар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, фан ва ишлаб чиқаришни интеграциялашни ташкил эт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қтидорли талабаларни қидириб топиш, танлаш ва улар билан ишла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ий таълимда менежмент ва маркетинг асослар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042920" y="4726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ҳуқуқий мақо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211860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юридик шахс бўлиб, қонун ҳужжатларида белгиланган тартибда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шк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ила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қонун ҳужжатларига мувофиқ ишлаб чиқилган устав асосида фаолият кўрсат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лари уставда белгиланган вазифаларига мувофиқ пулли таълим хизматлари кўрсатиш, шунингдек, тадбиркорлик фаолиятининг бошқа турлари билан шуғулланишга ҳақ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1280" y="1257480"/>
            <a:ext cx="820872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лаpи уставини ишлаб чи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РТИБ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азирлар Маҳкамасинин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998 йил 5 январдаги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-сон қаpоpиг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илова сифатида тасдиқланган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азкур Тартибга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зирлар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ҳкамасининг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20.06.2011 й. 183-сон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Қарорига мувофиқ ўзгартиришлар киритилга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71640" y="6897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СТАВНИНГ ТУЗИЛИ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20232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умий қоидала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 муассасасининг мақсад ва вазифалаp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олувчила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ва илмий-услубий 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м муассаса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,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ходим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га рахбарлик к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моат ташкило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-мулки ва мабл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0.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та ташкил этиш ва тугат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тарти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755640" y="549360"/>
            <a:ext cx="770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ат таълим стандарт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242100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 умумий ўрта, ўрта махсус, касб-ҳунар ва олий таълим мазмунига ҳамда сифатига қўйиладиган талабларни белгилай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ни бажариш Ўзбекистон Республикасининг барча таълим муассасалари учун мажбурийд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547640" y="54936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тизи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1773360"/>
            <a:ext cx="83516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авлат стандартларига мувофиқ таълим дастурларини амалга оширувчи давлат ва нодавлат таълим муассасалари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тизимининг фаолият кўрсатиши ва ривожланишини таъминлаш учун зарур бўлган тадқиқот ишларини бажарувчи илмий-педагогик муассасалар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соҳасидаги давлат бошқарув органлари, шунингдек, уларга қарашли корхоналар, муассасалар ва ташкилотлар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Ўзбекистон Республикасида таълим </a:t>
            </a:r>
            <a:r>
              <a:rPr b="0" lang="uz-Cyrl-UZ" sz="4000" spc="-1" strike="noStrike">
                <a:solidFill>
                  <a:srgbClr val="ffffff"/>
                </a:solidFill>
                <a:latin typeface="Arial"/>
              </a:rPr>
              <a:t>турла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гач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умий ўрт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ўрта махсус, касб-ҳунар таъли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ўқув юртидан кейинги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дрлар малакасини ошириш ва уларни қайта тайёрлаш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дан ташқари таъл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 тўғрисидаги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ҳужжат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редитация қилинган таълим муассасаларининг битирувчиларига давлат томонидан тасдиқланган намунадаги маълумот тўғрисидаги ҳужжат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берилад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п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ртифик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оҳно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00000" y="404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ЪЛИМ ЖАРАЁНИ ҚАТНАШЧИЛАРИНИ ИЖТИМОИЙ ҲИМОЯ Қ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1628640"/>
            <a:ext cx="6913440" cy="719280"/>
          </a:xfrm>
          <a:prstGeom prst="wedgeRoundRectCallout">
            <a:avLst>
              <a:gd name="adj1" fmla="val -43754"/>
              <a:gd name="adj2" fmla="val 16226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Таълим олувчиларни ижтимоий ҳимоя қил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2637000"/>
            <a:ext cx="6913800" cy="792000"/>
          </a:xfrm>
          <a:prstGeom prst="wedgeRoundRectCallout">
            <a:avLst>
              <a:gd name="adj1" fmla="val -43754"/>
              <a:gd name="adj2" fmla="val 10120"/>
              <a:gd name="adj3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аълим муассасалари ходимларини ижтимоий ҳимоя қили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3645000"/>
            <a:ext cx="6913440" cy="1152360"/>
          </a:xfrm>
          <a:prstGeom prst="wedgeRoundRectCallout">
            <a:avLst>
              <a:gd name="adj1" fmla="val -43754"/>
              <a:gd name="adj2" fmla="val 3856"/>
              <a:gd name="adj3" fmla="val 16667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Етим болаларни ва ота-оналарининг ёки бошқа қонуний вакилларининг васийлигисиз қолган болаларни ўқит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5013360"/>
            <a:ext cx="6913800" cy="1008000"/>
          </a:xfrm>
          <a:prstGeom prst="wedgeRoundRectCallout">
            <a:avLst>
              <a:gd name="adj1" fmla="val -42722"/>
              <a:gd name="adj2" fmla="val 68740"/>
              <a:gd name="adj3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смоний ёки руҳий ривожланишида нуқсони бўлган болалар ва ўсмирларни ўқити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95280" y="2366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2349360"/>
            <a:ext cx="820908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ОЛИЙ ТАЪЛИМ ТИЗИМИНИ БОШҚАРИШ ВАЗИРЛАР МАҲКАМАСИ ВА ТАЪЛИМНИ БОШҚАРИШ БЎЙИЧА ВАКОЛАТЛИ ДАВЛАТ ИДОРАСИ ТОМОНИДАН АМАЛГА ОШИРИЛ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1280" y="41256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ҳуқуқий ҳужжатлар қабул қили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ҳуқуқига эга бўлган органлар ёки мансабдор шахс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3295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Олий Мажлисининг палата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Президент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Вазирлар Маҳкамас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ирликлар, давлат қўмиталари ва идоралар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ҳаллий давлат ҳокимияти орган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64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Ўзбекистон Республикас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азирлар Ма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масининг таълим со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 ягона давлат сиёсатини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ги давлат бош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руви органларига раҳбарлик 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л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ни ривожлантириш дастурларини ишлаб чиқиш ва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ташкил этиш, қайта ташкил этиш ва тугат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аккредитациядан, педагог, илмий кадрларни аттестациядан ўтказ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шқа давлатларнинг таълим муассасаларига Ўзбекистон Республикасининг ҳудудида таълим фаолияти билан шуғулланиш ҳуқуқини берувчи рухсатномалар бе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хорижий давлатларнинг таълим тўғрисидаги ҳужжатларини тан олиш ва ҳужжатларнинг эквивалент эканлигини қайд этиш тартибини белгилаш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аълим стандартларини тасдиқ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омонидан тасдиқланган намунадаги маълумот тўғрисидаги ҳужжатларни тасдиқлаш ва уларни бер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грантлари миқдори ва таълим муассасаларига қабул қил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олий таълим муассасасининг ректорларини тайин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ълим олувчиларни аккредитация қилинган бир таълим муассасасидан бошқасига ўтказ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бошқа ваколатл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50920" y="357480"/>
            <a:ext cx="842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Таълимни бошқариш бўйича махсус ваколат берилган давлат органларинин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ҳуқуқ доирасиг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1753920"/>
            <a:ext cx="834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соҳасида ягона давлат сиёсатини рўёбга чиқар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муассасалари фаолиятини мувофиқлаштириш ва услубий масалаларда уларга раҳбарлик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Д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влат таълим стандартлари, мутахассисларнинг билим савияси ва касб тайёргарлигига бўлган талаблар бажарилишини таъмин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Ў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қув ва ўқув-услубий адабиётларини нашр этишни ташкил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95280" y="4608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5.Ўқитишнинг илғор шакллари ва педагогик технологияларни, таълимнинг техник ва ахборот воситаларини ўқув жараёни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6.Таълим олувчиларнинг якуний давлат аттестацияси ва  экстернат тўғрисидаги низомларини тасдиқ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7.Давлат олий таълим муассасасининг ректорини тайинлаш тўғрисида Вазирлар Маҳкамасига таклифлар кири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8.Педагог ходимларни тайёрлашни, уларнинг малакасини оширишни ва қайта тайёрлашни ташкил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9.Қонун ҳужжатларига мувофиқ бошқа ваколат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33360" y="3924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Маҳаллий давлат ҳокимияти органларининг таълим соҳ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527840"/>
            <a:ext cx="8351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1.Таълим муассасалари фаолиятининг минтақаларни ижтимоий-иқтисодий ривожлантириш эҳтиёжларига мувофиқлигини таъмин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Таълим муассасаларини ташкил этиш, қайта ташкил этиш ва тугатиш  уларнинг уставларини рўйхатга о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Ўз ҳудудларидаги таълим муассасаларини ваколат доирасида молиялаш миқдорларини ва имтиёзларни белги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Таълим сифати ва даражасига, шунингдек, педагог ходимларнинг касб фаолиятига бўлган давлат талабларига риоя этилишини таъминлаш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5.Қонун ҳужжатларига мувофиқ бошқа ваколатлар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68360" y="2527920"/>
            <a:ext cx="7201440" cy="302256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Вояга етмаган болаларнинг ота-оналари ёки қонуний вакиллари боланинг қонуний ҳуқуқлари ва манфаатларини ҳимоя қилишлари шарт эканлиги ҳамда уларнинг тарбияси, мактабгача, умумий ўрта, ўрта махсус, касб-ҳунар таълими олишлари учун жавобгар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с двумя скругленными противолежащими углами 14"/>
          <p:cNvSpPr/>
          <p:nvPr/>
        </p:nvSpPr>
        <p:spPr>
          <a:xfrm>
            <a:off x="684360" y="260280"/>
            <a:ext cx="8135640" cy="129708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-оналар ёки қонуний вакиллар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нинг вазифалар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Таълимни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молияла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1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Бюджетдан ташқари маблағлар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Маҳаллий бюджетлар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2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Республика бюджети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2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с двумя скругленными противолежащими углами 13"/>
          <p:cNvSpPr/>
          <p:nvPr/>
        </p:nvSpPr>
        <p:spPr>
          <a:xfrm>
            <a:off x="684360" y="2781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ни ривожлантириш фондлари қонун ҳужжатларида белгиланган тартибда юридик ва жисмоний шахслар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хтиёрий бадалларидан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с двумя скругленными противолежащими углами 14"/>
          <p:cNvSpPr/>
          <p:nvPr/>
        </p:nvSpPr>
        <p:spPr>
          <a:xfrm>
            <a:off x="684360" y="4797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Чет эллик юридик ва жисмоний шахсларнинг ихтиёрий бадаллари ҳисобидан ташкил этилиши мумк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Заголовок 2"/>
          <p:cNvSpPr/>
          <p:nvPr/>
        </p:nvSpPr>
        <p:spPr>
          <a:xfrm>
            <a:off x="684360" y="476280"/>
            <a:ext cx="803268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ни ривожлантириш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ондлари</a:t>
            </a:r>
            <a:r>
              <a:rPr b="1" i="1" lang="uz-Cyrl-UZ" sz="36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лқаро ҳамкорл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3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Қонун ҳужжатларида белгиланган тартибда улар билан қўшма ўқув юртлари ташкил этиш ҳуқуқига эга экан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3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Хорижий мамлакатларнинг тегишли ўқув юртлари билан бевосита алоқалар ўрнатиш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Таълим муассасалари таълим муаммолари юзасидан халқаро ҳамкорликда иштирок этишлар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8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аълим тўғрисидаги қонун ҳужжатларини</a:t>
            </a:r>
            <a:br>
              <a:rPr sz="2800"/>
            </a:b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бузганлик учун жавобгарлик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Скругленный прямоугольник 4"/>
          <p:cNvGrpSpPr/>
          <p:nvPr/>
        </p:nvGrpSpPr>
        <p:grpSpPr>
          <a:xfrm>
            <a:off x="2157480" y="5224320"/>
            <a:ext cx="6754680" cy="1000440"/>
            <a:chOff x="2157480" y="5224320"/>
            <a:chExt cx="6754680" cy="1000440"/>
          </a:xfrm>
        </p:grpSpPr>
        <p:pic>
          <p:nvPicPr>
            <p:cNvPr id="54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224320"/>
              <a:ext cx="675468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255760" y="5327640"/>
              <a:ext cx="65692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Жино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546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аъмур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549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оддий жавобгарли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552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Интизом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4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7"/>
          <a:stretch/>
        </p:blipFill>
        <p:spPr>
          <a:xfrm>
            <a:off x="571680" y="5357880"/>
            <a:ext cx="1307880" cy="546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6920" y="404640"/>
            <a:ext cx="7705800" cy="1099440"/>
          </a:xfrm>
          <a:prstGeom prst="rect">
            <a:avLst/>
          </a:prstGeom>
          <a:noFill/>
          <a:ln w="28440">
            <a:solidFill>
              <a:srgbClr val="192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-ҳуқуқий ҳужжатларини давлат рўйхатидан ўтказиш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916280"/>
            <a:ext cx="8209080" cy="4435560"/>
          </a:xfrm>
          <a:prstGeom prst="rect">
            <a:avLst/>
          </a:prstGeom>
          <a:noFill/>
          <a:ln w="93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 норматив-ҳуқуқий ҳужжатлар қабул қилинган кундан эътиборан ўн кун ичида уларни давлат рўйхатидан ўтказиш учун Ўзбекистон Республикаси Адлия вазирлигига тақдим эт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давлат рўйхатидан ўтказилмаган норматив-ҳуқуқий ҳужжатлари тегишли ижтимоий муносабатларни ҳуқуқий жиҳатдан тартибга солиш учун асос бўлиб хизмат қилиши мумкин эмас ва ҳуқуқий оқибатларга олиб келмай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мансабдор шахслари давлат рўйхатидан ўтказилмаган норматив-ҳуқуқий ҳужжатларни амалга киритганлик учун маъмурий жавобгарликка тортил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306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84360" y="46188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лохаза юритиш учун савол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1280" y="3575160"/>
            <a:ext cx="8207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тўғрисидаги Қонунда таълим сифати тушунчаси берилганми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ОТМда т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ълим сифатини таъминлаш нималарга боғлиқ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сифати деганда нимани тушунасиз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Сиз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шл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ётган ОТМда таъли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сифатини таъминлаш учун нималар қилиш керак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11280" y="2492280"/>
            <a:ext cx="8064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ДРЛАР ТАЙЁРЛ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ИЛЛИЙ ДАСТУ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Ўзбекистон Республикас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лий Мажлисининг Ахборотномас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97 й., 11-12-сон, 295-модда;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3" name="Picture 5" descr="C:\Users\Латыпов\Desktop\gerb.gif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39640" y="608760"/>
            <a:ext cx="83534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дрлар тайёрлаш миллий дасту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ллий тажрибанинг таҳлили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ълим тизимидаги жаҳон миқёсидаги ютуқлар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Ю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сак умумий ва касб-ҳунар маданиятиг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одий ва ижтимоий фаолликк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тимоий-сиёсий ҳаётда мустақил равишда мўлжални тўғри ола билиш маҳоратига эга бўлган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иқбол вазифаларини илгари суриш ва ҳал этишга қодир кадрларнинг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янги авлодини шакллантиришга йўналтирилганд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3"/>
          <p:cNvSpPr/>
          <p:nvPr/>
        </p:nvSpPr>
        <p:spPr>
          <a:xfrm>
            <a:off x="250920" y="2205000"/>
            <a:ext cx="8713800" cy="3600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ълим соҳасини тубдан ислоҳ қилиш, уни ўтмишд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қолган мафкуравий қарашлар ва сарқитлардан тў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ос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иш, ривожланган демократик давлатл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аражасида, юксак маънавий ва ахлоқий талабларг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воб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ерувчи юқори малакали кадрлар тайёрлаш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иллий тизимини яратишди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TextBox 3"/>
          <p:cNvGrpSpPr/>
          <p:nvPr/>
        </p:nvGrpSpPr>
        <p:grpSpPr>
          <a:xfrm>
            <a:off x="971640" y="549360"/>
            <a:ext cx="7485120" cy="934920"/>
            <a:chOff x="971640" y="549360"/>
            <a:chExt cx="7485120" cy="934920"/>
          </a:xfrm>
        </p:grpSpPr>
        <p:pic>
          <p:nvPicPr>
            <p:cNvPr id="567" name="TextBox 3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4851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036800" y="630360"/>
              <a:ext cx="72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Arial"/>
                </a:rPr>
                <a:t>ДАСТУРНИНГ 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МАҚСАД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 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аълим тўғрисид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и Қонунга мувофиқ таълим тизимини ислоҳ қилиш, давлат ва нодавлат таълим муассасалари ҳамда таълим ва кадрлар тайёрлаш соҳасида рақобат муҳитини шакллантириш негизида таълим тизимини ягона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ўқув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лмий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шлаб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иқариш мажмуи сифатида изчил ривожлантиришни таъмин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Таълим ва кадрлар тайёрлаш тизимини жамиятда амалга оширилаётган янгиланиш, ривожланган демократик ҳуқуқий давлат қурилиши жараёнларига мос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Кадрлар тайёрлаш тизими муассасаларини юқори малакали мутахассислар билан таъминлаш, педагогик фаолиятнинг нуфузи ва ижтимоий мақомини кўтари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403280" y="47628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7b46d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СТУРНИНГ ВАЗИФАЛАРИ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7b46d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54936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Кадрлар тайёрлаш тизими ва мазмунини мамлакатнинг ижтимоий ва иқтисодий тараққиёти истиқболларидан, жамият эҳтиёжларидан, фан, маданият, техника ва технологиянинг замонавий ютуқларидан келиб чиққан ҳолда қайта қур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Таълим олувчиларни маънавий-ахлоқий тарбиялашнинг ва маърифий ишларнинг самарали шакллари ҳамда услубларини ишлаб чиқиш ва жорий э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6.Таълим ва кадрлар тайёрлаш, таълим муассасаларини аттестациядан ўтказиш ва аккредитация қилиш сифатига баҳо беришнинг холис тизимини жорий қи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7.Янги ижтимоий-иқтисодий шароитларда таълимнинг талаб қилинадиган даражаси ва сифатини, кадрлар тайёрлаш тизимининг амалда фаолият кўрсатиши ва барқарор ривожланишининг кафолатларини, устуворлигини таъминловчи норматив, моддий-техника ва ахборот базасини яра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68360" y="765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Таълим, фан ва ишлаб чиқар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марали интеграциялашувини таъминлаш, тайёрланаётган кадрларнинг миқдори ва сифатига нисбатан давлатнинг талабларини, шунингдек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давлат тузилмалари, корхоналар ва ташкилотларнинг буюртмаларини шакллантиришнинг механизмларини ишлаб чиқ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Узлуксиз таълим ва кадрлар тайёрлаш тизимига бюджетдан ташқари маблағлар, шу жумладан чет эл инвестициялари жалб этишнинг реал механизмларини ишлаб чиқиш ва амалиёт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Кадрлар тайёрлаш соҳасида ўзаро манфаатли халқаро ҳамкорликни ривожлантири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71640" y="189000"/>
            <a:ext cx="72673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СТУРНИ РЎЁБГА ЧИҚАРИ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СҚИЧ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5013360"/>
            <a:ext cx="8642160" cy="1191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Ч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5 ва ундан кейинги йиллар) тўпланган тажрибани таҳлил этиш ва умумлаштириш асосида, мамлакатни ижтимоий-иқтисодий ривожлантириш истиқболларига мувофиқ кадрлар тайёрлаш тизимини такомиллаштириш ва янада ривожлантир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789360"/>
            <a:ext cx="864216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КК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1 — 2005 йиллар) Миллий дастурни тўлиқ рўёбга чиқариш, меҳнат бозорининг ривожланиши ва реал ижтимоий-иқтисодий шароитларни ҳисобга олган ҳолда унга аниқликлар кири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2205000"/>
            <a:ext cx="864216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ИР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1997 — 2001 йиллар) мавжуд кадрлар тайёрлаш тизимининг ижобий салоҳиятини сақлаб қолиш асосида ушбу тизимни ислоҳ қилиш ва ривожлантириш учун ҳуқуқий, кадрлар жиҳатидан, илмий-услубий, молиявий-моддий шарт-шароитлар яра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50920" y="260280"/>
            <a:ext cx="8640720" cy="6336720"/>
            <a:chOff x="250920" y="260280"/>
            <a:chExt cx="8640720" cy="6336720"/>
          </a:xfrm>
        </p:grpSpPr>
        <p:cxnSp>
          <p:nvCxnSpPr>
            <p:cNvPr id="578" name="_s509956"/>
            <p:cNvCxnSpPr>
              <a:stCxn id="579" idx="1"/>
              <a:endCxn id="580" idx="2"/>
            </p:cNvCxnSpPr>
            <p:nvPr/>
          </p:nvCxnSpPr>
          <p:spPr>
            <a:xfrm rot="10800000">
              <a:off x="2842200" y="1004760"/>
              <a:ext cx="864720" cy="5219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1" name="_s509957"/>
            <p:cNvCxnSpPr>
              <a:stCxn id="582" idx="1"/>
              <a:endCxn id="580" idx="2"/>
            </p:cNvCxnSpPr>
            <p:nvPr/>
          </p:nvCxnSpPr>
          <p:spPr>
            <a:xfrm rot="10800000">
              <a:off x="2842200" y="1005480"/>
              <a:ext cx="864720" cy="4100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3" name="_s509958"/>
            <p:cNvCxnSpPr>
              <a:stCxn id="584" idx="1"/>
              <a:endCxn id="580" idx="2"/>
            </p:cNvCxnSpPr>
            <p:nvPr/>
          </p:nvCxnSpPr>
          <p:spPr>
            <a:xfrm rot="10800000">
              <a:off x="2842200" y="1004760"/>
              <a:ext cx="864720" cy="2982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509959"/>
            <p:cNvCxnSpPr>
              <a:stCxn id="586" idx="1"/>
              <a:endCxn id="580" idx="2"/>
            </p:cNvCxnSpPr>
            <p:nvPr/>
          </p:nvCxnSpPr>
          <p:spPr>
            <a:xfrm rot="10800000">
              <a:off x="2842200" y="1004760"/>
              <a:ext cx="864720" cy="186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509960"/>
            <p:cNvCxnSpPr>
              <a:stCxn id="588" idx="1"/>
              <a:endCxn id="580" idx="2"/>
            </p:cNvCxnSpPr>
            <p:nvPr/>
          </p:nvCxnSpPr>
          <p:spPr>
            <a:xfrm rot="10800000">
              <a:off x="2842200" y="1004760"/>
              <a:ext cx="864720" cy="74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0" name="_s509961"/>
            <p:cNvSpPr/>
            <p:nvPr/>
          </p:nvSpPr>
          <p:spPr>
            <a:xfrm>
              <a:off x="250920" y="260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Кадрлар тайёрлаш миллий моделининг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асосий таркибий қисмлари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509962"/>
            <p:cNvSpPr/>
            <p:nvPr/>
          </p:nvSpPr>
          <p:spPr>
            <a:xfrm>
              <a:off x="3707280" y="137844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Шахс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кадрлар тайёрлаш тизимининг б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субъекти ва объект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509963"/>
            <p:cNvSpPr/>
            <p:nvPr/>
          </p:nvSpPr>
          <p:spPr>
            <a:xfrm>
              <a:off x="3707280" y="24966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Давлат ва жамият</a:t>
              </a: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 -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 в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уларни қабул қилиб олишнинг кафиллари;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509964"/>
            <p:cNvSpPr/>
            <p:nvPr/>
          </p:nvSpPr>
          <p:spPr>
            <a:xfrm>
              <a:off x="3707280" y="361512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Узлуксиз таълим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малакали рақобатбард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нинг асос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_s509965"/>
            <p:cNvSpPr/>
            <p:nvPr/>
          </p:nvSpPr>
          <p:spPr>
            <a:xfrm>
              <a:off x="3707280" y="4733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Фан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- юқори малакали мутахассислар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тайёрловчи ва улардан фойдаланувчи</a:t>
              </a: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_s509966"/>
            <p:cNvSpPr/>
            <p:nvPr/>
          </p:nvSpPr>
          <p:spPr>
            <a:xfrm>
              <a:off x="3707280" y="58518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Ишлаб чиқариш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- кадрларга бўлган эҳтиёжни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уларнинг тайёргарлик сифа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а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 қўйиладига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талабларни белгиловч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2852640"/>
            <a:ext cx="785016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3933720"/>
            <a:ext cx="792000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В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5084640"/>
            <a:ext cx="78850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ЖОР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Заголовок 2"/>
          <p:cNvSpPr/>
          <p:nvPr/>
        </p:nvSpPr>
        <p:spPr>
          <a:xfrm>
            <a:off x="755640" y="692280"/>
            <a:ext cx="8032680" cy="100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400" spc="-1" strike="noStrike">
                <a:solidFill>
                  <a:srgbClr val="ffffff"/>
                </a:solidFill>
                <a:latin typeface="Arial"/>
              </a:rPr>
              <a:t>ҚОНУН ХУЖЖАТЛАР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250920" y="189000"/>
            <a:ext cx="8640720" cy="6408360"/>
            <a:chOff x="250920" y="189000"/>
            <a:chExt cx="8640720" cy="6408360"/>
          </a:xfrm>
        </p:grpSpPr>
        <p:cxnSp>
          <p:nvCxnSpPr>
            <p:cNvPr id="590" name="_s510980"/>
            <p:cNvCxnSpPr>
              <a:stCxn id="591" idx="1"/>
              <a:endCxn id="592" idx="2"/>
            </p:cNvCxnSpPr>
            <p:nvPr/>
          </p:nvCxnSpPr>
          <p:spPr>
            <a:xfrm rot="10800000">
              <a:off x="2842200" y="942120"/>
              <a:ext cx="864720" cy="527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3" name="_s510981"/>
            <p:cNvCxnSpPr>
              <a:stCxn id="594" idx="1"/>
              <a:endCxn id="592" idx="2"/>
            </p:cNvCxnSpPr>
            <p:nvPr/>
          </p:nvCxnSpPr>
          <p:spPr>
            <a:xfrm rot="10800000">
              <a:off x="2842200" y="942120"/>
              <a:ext cx="864720" cy="41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5" name="_s510982"/>
            <p:cNvCxnSpPr>
              <a:stCxn id="596" idx="1"/>
              <a:endCxn id="592" idx="2"/>
            </p:cNvCxnSpPr>
            <p:nvPr/>
          </p:nvCxnSpPr>
          <p:spPr>
            <a:xfrm rot="10800000">
              <a:off x="2842200" y="942120"/>
              <a:ext cx="864720" cy="301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7" name="_s510983"/>
            <p:cNvCxnSpPr>
              <a:stCxn id="598" idx="1"/>
              <a:endCxn id="592" idx="2"/>
            </p:cNvCxnSpPr>
            <p:nvPr/>
          </p:nvCxnSpPr>
          <p:spPr>
            <a:xfrm rot="10800000">
              <a:off x="2842200" y="942120"/>
              <a:ext cx="864720" cy="188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9" name="_s510984"/>
            <p:cNvCxnSpPr>
              <a:stCxn id="600" idx="1"/>
              <a:endCxn id="592" idx="2"/>
            </p:cNvCxnSpPr>
            <p:nvPr/>
          </p:nvCxnSpPr>
          <p:spPr>
            <a:xfrm rot="10800000">
              <a:off x="2842200" y="942120"/>
              <a:ext cx="864720" cy="75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2" name="_s510985"/>
            <p:cNvSpPr/>
            <p:nvPr/>
          </p:nvSpPr>
          <p:spPr>
            <a:xfrm>
              <a:off x="250920" y="1890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КАДРЛАР ТАЙЁРЛАШ ТИЗИМИН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ИВОЖЛАНТИРИШНИНГ АСОС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Й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ЛИШЛАРИ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510986"/>
            <p:cNvSpPr/>
            <p:nvPr/>
          </p:nvSpPr>
          <p:spPr>
            <a:xfrm>
              <a:off x="3707280" y="131976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ни таъминла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_s510987"/>
            <p:cNvSpPr/>
            <p:nvPr/>
          </p:nvSpPr>
          <p:spPr>
            <a:xfrm>
              <a:off x="3707280" y="2450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едагог ва илмий-педагог кадрлар тайёрлаш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қайта тайёрлаш ва уларни малакасини ошириш</a:t>
              </a:r>
              <a:r>
                <a:rPr b="0" lang="uz-Cyrl-UZ" sz="17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_s510988"/>
            <p:cNvSpPr/>
            <p:nvPr/>
          </p:nvSpPr>
          <p:spPr>
            <a:xfrm>
              <a:off x="3707280" y="358164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 жараёнини мазмунан ислоҳ қили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_s510989"/>
            <p:cNvSpPr/>
            <p:nvPr/>
          </p:nvSpPr>
          <p:spPr>
            <a:xfrm>
              <a:off x="3707280" y="47124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аънавий-ахлоқий тарбия ва маъриф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_s510990"/>
            <p:cNvSpPr/>
            <p:nvPr/>
          </p:nvSpPr>
          <p:spPr>
            <a:xfrm>
              <a:off x="3707280" y="5843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қтидорли болалар ва истеъдодли ё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95280" y="1052640"/>
            <a:ext cx="3600360" cy="2663640"/>
          </a:xfrm>
          <a:prstGeom prst="flowChartMagneticTap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1989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бошқари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8360" y="1052640"/>
            <a:ext cx="3529080" cy="2520720"/>
          </a:xfrm>
          <a:prstGeom prst="flowChartMagnetic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508720" y="1989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молияла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4221000"/>
            <a:ext cx="3240000" cy="2232360"/>
          </a:xfrm>
          <a:prstGeom prst="flowChartMagneticTap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472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Касб-ҳунар таълими сифатини назорат қилиш тизимини шакл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92720" y="4292640"/>
            <a:ext cx="3384720" cy="2232000"/>
          </a:xfrm>
          <a:prstGeom prst="flowChartMagneticTap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80000" y="501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Моддий техника таъмино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95280" y="333360"/>
            <a:ext cx="3672000" cy="1511280"/>
          </a:xfrm>
          <a:prstGeom prst="wedgeRoundRectCallout">
            <a:avLst>
              <a:gd name="adj1" fmla="val -55143"/>
              <a:gd name="adj2" fmla="val 5462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" y="2421000"/>
            <a:ext cx="3671640" cy="1584360"/>
          </a:xfrm>
          <a:prstGeom prst="wedgeRoundRectCallout">
            <a:avLst>
              <a:gd name="adj1" fmla="val -53157"/>
              <a:gd name="adj2" fmla="val 78856"/>
              <a:gd name="adj3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280" y="4653000"/>
            <a:ext cx="3888000" cy="1584360"/>
          </a:xfrm>
          <a:prstGeom prst="wedgeRoundRectCallout">
            <a:avLst>
              <a:gd name="adj1" fmla="val -48162"/>
              <a:gd name="adj2" fmla="val 71643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12000" y="189000"/>
            <a:ext cx="2952720" cy="1584360"/>
          </a:xfrm>
          <a:prstGeom prst="wedgeRoundRectCallout">
            <a:avLst>
              <a:gd name="adj1" fmla="val 38976"/>
              <a:gd name="adj2" fmla="val 73449"/>
              <a:gd name="adj3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27640" y="33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ан билан таълим жараёни алоқ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р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ни ри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2000" y="2349360"/>
            <a:ext cx="2952720" cy="1584360"/>
          </a:xfrm>
          <a:prstGeom prst="wedgeRoundRectCallout">
            <a:avLst>
              <a:gd name="adj1" fmla="val 40430"/>
              <a:gd name="adj2" fmla="val 72546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56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шлаб чиқа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риш ва таълим тиз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интеграциялашувини 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4508640"/>
            <a:ext cx="3097440" cy="1944720"/>
          </a:xfrm>
          <a:prstGeom prst="wedgeRoundRectCallout">
            <a:avLst>
              <a:gd name="adj1" fmla="val 38106"/>
              <a:gd name="adj2" fmla="val 65263"/>
              <a:gd name="adj3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2000" y="486900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ва кадрлар тайёрлаш сохасидаги халқаро ҳамкорлик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0920" y="4797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Таълим сохасида ижтимоий кафолотларни таъминлаш хамда бу сохани давлат томонидан қўллаб қувватлаш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278136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хизмати кўрсатиш бозорини ривожлан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620640"/>
            <a:ext cx="3311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тизимининг яхлит ахборот маконини вужудга кел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95280" y="2781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ЭЪТИБОРИНГИЗ УЧУ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РАҲМАТ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1042920" y="4508640"/>
            <a:ext cx="7056360" cy="0"/>
          </a:xfrm>
          <a:prstGeom prst="line">
            <a:avLst/>
          </a:prstGeom>
          <a:ln w="1260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5" descr="uz1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4"/>
          <p:cNvGrpSpPr/>
          <p:nvPr/>
        </p:nvGrpSpPr>
        <p:grpSpPr>
          <a:xfrm>
            <a:off x="395280" y="620640"/>
            <a:ext cx="8352720" cy="5472000"/>
            <a:chOff x="395280" y="620640"/>
            <a:chExt cx="8352720" cy="5472000"/>
          </a:xfrm>
        </p:grpSpPr>
        <p:grpSp>
          <p:nvGrpSpPr>
            <p:cNvPr id="386" name="Rectangle 5"/>
            <p:cNvGrpSpPr/>
            <p:nvPr/>
          </p:nvGrpSpPr>
          <p:grpSpPr>
            <a:xfrm>
              <a:off x="2813400" y="620640"/>
              <a:ext cx="3590280" cy="1256040"/>
              <a:chOff x="2813400" y="620640"/>
              <a:chExt cx="3590280" cy="1256040"/>
            </a:xfrm>
          </p:grpSpPr>
          <p:pic>
            <p:nvPicPr>
              <p:cNvPr id="387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3400" y="620640"/>
                <a:ext cx="359028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2874960" y="655200"/>
                <a:ext cx="347724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Қонуности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хужжатлари: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Rectangle 6"/>
            <p:cNvGrpSpPr/>
            <p:nvPr/>
          </p:nvGrpSpPr>
          <p:grpSpPr>
            <a:xfrm>
              <a:off x="395280" y="2821680"/>
              <a:ext cx="3589560" cy="1261800"/>
              <a:chOff x="395280" y="2821680"/>
              <a:chExt cx="3589560" cy="1261800"/>
            </a:xfrm>
          </p:grpSpPr>
          <p:pic>
            <p:nvPicPr>
              <p:cNvPr id="390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45432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Н</a:t>
                </a:r>
                <a:r>
                  <a:rPr b="0" i="1" lang="en-US" sz="28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Rectangle 7"/>
            <p:cNvGrpSpPr/>
            <p:nvPr/>
          </p:nvGrpSpPr>
          <p:grpSpPr>
            <a:xfrm>
              <a:off x="395280" y="4836600"/>
              <a:ext cx="3589560" cy="1256040"/>
              <a:chOff x="395280" y="4836600"/>
              <a:chExt cx="3589560" cy="1256040"/>
            </a:xfrm>
          </p:grpSpPr>
          <p:pic>
            <p:nvPicPr>
              <p:cNvPr id="39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454320" y="487368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Қ</a:t>
                </a:r>
                <a:r>
                  <a:rPr b="1" i="1" lang="ru-RU" sz="2800" spc="-1" strike="noStrike">
                    <a:solidFill>
                      <a:srgbClr val="ffffff"/>
                    </a:solidFill>
                    <a:latin typeface="Arial"/>
                  </a:rPr>
                  <a:t>АРОР</a:t>
                </a:r>
                <a:r>
                  <a:rPr b="0" lang="ru-RU" sz="24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Rectangle 8"/>
            <p:cNvGrpSpPr/>
            <p:nvPr/>
          </p:nvGrpSpPr>
          <p:grpSpPr>
            <a:xfrm>
              <a:off x="5158440" y="4836600"/>
              <a:ext cx="3589560" cy="1256040"/>
              <a:chOff x="5158440" y="4836600"/>
              <a:chExt cx="3589560" cy="125604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5844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218200" y="487152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БУЙРУҚ</a:t>
                </a:r>
                <a:r>
                  <a:rPr b="0" i="1" lang="ru-RU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Rectangle 9"/>
            <p:cNvGrpSpPr/>
            <p:nvPr/>
          </p:nvGrpSpPr>
          <p:grpSpPr>
            <a:xfrm>
              <a:off x="5158440" y="2821680"/>
              <a:ext cx="3589560" cy="1261800"/>
              <a:chOff x="5158440" y="2821680"/>
              <a:chExt cx="3589560" cy="1261800"/>
            </a:xfrm>
          </p:grpSpPr>
          <p:pic>
            <p:nvPicPr>
              <p:cNvPr id="399" name="Rectangl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844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521820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ЙИШ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Line 10"/>
            <p:cNvSpPr/>
            <p:nvPr/>
          </p:nvSpPr>
          <p:spPr>
            <a:xfrm>
              <a:off x="4538520" y="1804680"/>
              <a:ext cx="0" cy="393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4538520" y="57373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 flipH="1">
              <a:off x="3933360" y="57373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H="1">
              <a:off x="3933360" y="34351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>
              <a:off x="4538520" y="34351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68360" y="29937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Қонун 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2. Фармон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3. Фармойиш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4. Қарор.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5. Буйруқ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"/>
          <p:cNvSpPr/>
          <p:nvPr/>
        </p:nvSpPr>
        <p:spPr>
          <a:xfrm>
            <a:off x="900000" y="476280"/>
            <a:ext cx="5472360" cy="936720"/>
          </a:xfrm>
          <a:prstGeom prst="horizontalScrol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0000"/>
                </a:solidFill>
                <a:latin typeface="Arial"/>
              </a:rPr>
              <a:t>С  А  В  О 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ятно 1 8"/>
          <p:cNvSpPr/>
          <p:nvPr/>
        </p:nvSpPr>
        <p:spPr>
          <a:xfrm>
            <a:off x="0" y="1500120"/>
            <a:ext cx="9144000" cy="5357880"/>
          </a:xfrm>
          <a:prstGeom prst="irregularSeal1">
            <a:avLst/>
          </a:prstGeom>
          <a:gradFill rotWithShape="0">
            <a:gsLst>
              <a:gs pos="0">
                <a:srgbClr val="a3eeff"/>
              </a:gs>
              <a:gs pos="100000">
                <a:srgbClr val="e5faff"/>
              </a:gs>
            </a:gsLst>
            <a:lin ang="16200000"/>
          </a:gradFill>
          <a:ln cap="rnd" w="6480">
            <a:solidFill>
              <a:srgbClr val="5bb2ca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ҳамат, кимдан эшитамиз</a:t>
            </a:r>
            <a:r>
              <a:rPr b="0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.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8388360" y="189000"/>
            <a:ext cx="4190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9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39:02Z</dcterms:created>
  <dc:creator>LORD</dc:creator>
  <dc:description/>
  <dc:language>en-US</dc:language>
  <cp:lastModifiedBy>User</cp:lastModifiedBy>
  <dcterms:modified xsi:type="dcterms:W3CDTF">2015-09-16T16:00:27Z</dcterms:modified>
  <cp:revision>248</cp:revision>
  <dc:subject/>
  <dc:title>Слайд 1</dc:title>
</cp:coreProperties>
</file>