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media/image11.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E51A26-4E3E-431E-82D1-5442C0145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8F1C6E-6CE6-41B6-B7E7-B60B33FD3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406027F-04E3-4C55-9734-61EAE07889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B7803C0-6777-4908-9BE7-A14DB54581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55158E4-4156-42FC-8C0F-6D842ED46B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D2C775B-AAE1-48F9-9C15-66EA100BA4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CDC6DDD-DFA3-48DB-A2BE-CB26FAF65B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4134027-BE2E-4A6B-ABF1-D45E87B9B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9932420-7158-4B62-97C5-B6DE0CDCD2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8139D79-89CB-46BE-A31A-B26CE3396A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F8C204C-522E-4951-B789-30833A1BF3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79BFDC4-222B-4861-87F7-8E4380AF72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8A7313E-07ED-442F-98BB-CB354B3CB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36662CF-823F-4829-9439-B1759D1455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CCDE107-C43A-4B91-98E7-0B7B57C11D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787BF6D-E564-479C-9848-9069C77554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8E1A01E-FBEF-476C-B23B-C2BC2275E9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09F0953-20C3-4865-B20B-E7C81D6B62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307844F-1930-4D07-9505-634BB39897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078D0B9-F192-4831-9404-FF5946283D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F633104-AF62-44FC-9055-BDE8C65993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F6E2CCB-3E44-436A-B1DB-AE8BA9270F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88DEB81-1ECB-41C0-A96F-2BD024ADC4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38AD1E7-5099-4508-B3A0-13BAA102A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820DCFA-0255-4A60-B797-27FDEAB461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38AE54-2559-425B-8527-F48A7758C2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679EED-8444-4F28-942B-9FEED4C366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CE55FE-1B6C-41DB-924B-F9478ACBC4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08C903-6820-454E-A9F2-F26F7F4E27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76DD27-FC60-4E59-8773-36668E6814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A3AD3A-94F3-40B0-8C80-6939920C0C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07156D-2336-4EE4-A4FB-90DE5A4326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7C4000-E145-4E34-8885-C9C54223C8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ADCA3F-C0C1-4BD0-B915-F9A8A3D3BC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8A1FD-A743-48A1-AAEB-30C2A5667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58FF72-1670-4E3A-9B65-465A56ED5B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A479DB-2753-4572-A688-763C9C9F3B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F7C28A-44C3-470F-B9C5-AB7C2407AA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0B1063-B9AB-4C23-8076-00F2F4E147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DAD3E0-AF4B-400C-8BB1-658BDB0896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FFA9B4-F2AB-4C51-8AA9-4DDBD7431C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BF138D-3933-4937-8E25-1F03A5C83D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985B85-9AF9-4E34-B035-FA4918C20D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3B7FBA-EEC1-4E32-8E51-77477964A1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A997B3-3A2C-4AFD-8C9B-7EECA8CD63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9F1D4-55FF-4458-882E-8F260E2CD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8F843B-A545-49AA-B2EE-9B682E14DA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06A682-8BD3-4047-A068-CD38539721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F7F7A8-C9E1-40AF-9682-B684E4280C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D78511-CED2-417D-8212-3B1F4CA2FD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087C3B-4259-4251-B16E-64664AE426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20204-9589-4440-A6E6-FAD690EE4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E9969-08B7-445D-B14C-7DB83C11B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B50EE-D465-48F8-AE53-6910B9B76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AF3EF-21C0-453B-9F87-A669FA418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C728B-C219-4674-A735-681A44C32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4B2D94-C79E-4DE1-AB1D-9DC75A244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CBAF9-CE1D-4728-97F1-32CF67EE1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2D53D-33CC-44C2-A8FC-49A79D997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38686-7537-4262-9AC7-4E0DAC2D8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C2B96-6A1A-4446-AF53-A94A0ADB9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A61EB-7CDB-4E7E-89CF-8AA35F794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E2B879F-0B28-4697-9487-DB2B89F21D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E01526A-A820-4610-9CC4-5E5AAD050B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311877B-ECCC-4990-91A0-E9F569B032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C4A160D-6086-413E-B4DB-E723F74FB6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57017B0-536B-42FD-A46E-047B78321A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E541BA-E396-4D29-9C3F-0F94A731E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75C95F3-6A5E-4564-856E-1B7BAD8081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35552D-13CD-4B31-81BD-4C2098662C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1FCAD74-4297-4762-8CA3-217EBA6A27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CEA346-A8EE-4C62-AAC0-3910881109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83287F-E6CB-4A70-994C-AF98E0FBCA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03BC635-82BA-4E07-B3E4-C44EEABEF56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FACAD67-77F3-46DA-93A3-C5338D38885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0394DF7-1912-43E1-A0E7-62922B11BB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3BAB9D-FD62-4D1D-87F5-F8DB5FAED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162C7C-1842-484A-8BB9-CCCD9D5020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3AA124-4046-4230-820C-030F2D84D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75A8E51-BECE-423C-A959-9BB99356E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6DB5DC-FF4F-41E3-81A9-08903A64D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063D6D-A82E-49AA-A2B1-9880F0E75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6873C2-E33E-47AF-9062-D2013D72B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00A680-B17A-46C3-95BF-E41423F72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501265-9BB6-4807-A1A0-942E6401A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11FB12A-54BB-4C7B-BF6C-8A2C20F6B4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423FBF-C854-454F-A96D-68D48AE9E3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041D366-76C6-454A-981C-E069F191F0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0E84EDF-BD0E-4B87-A626-3880E6949D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AAA894-EBFD-477E-91E0-DFE9806F7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FACE6C-6EED-4FF0-859D-674F6E589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B09A45-E9D1-4B3A-B1BC-35B3A134A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4810D4-1ECD-497C-9249-03B45EA1F8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4FD3F7-7550-421D-86DE-3C2B785CC5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B63D78-8ADC-4B10-8825-F6DE8F7C7B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C45D1A-F789-4BD1-8764-129288BDC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7109C9-D2C3-4C73-B26B-EE94EBADD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FEE7AF-BA5F-4CEF-B86B-A08FD8456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FE2DD3-AFBB-44DE-8F82-A602E0E718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2877C95-E17D-4FA6-9C38-C20F967D44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621C2A-A0EF-44BF-951C-F1B07EFE1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90585AA-A19A-4416-BE3F-DA01F168F7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1CC7F72-19BD-4A25-9E0A-23A3F5D1A8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A124C7C-16D9-4AB6-A067-681D80173F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28927EE-65E8-4FFC-B9C8-465CBC8999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DBB2078-4815-4E54-B1CD-7C34F53B51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BCAED37-6314-4C2F-BC6D-00231D6267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A3B1814-8A3C-422F-AB41-DB6D543DC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E0AB6A8-FE7D-4C0D-880F-8592928503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F8667A-0ECB-457E-B229-888BEDC06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E59CA7-2008-4DFC-8E3B-6271C06BAA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845EDF-9767-418D-A1C9-37B46893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48891B2-BC63-4AA7-B456-D4201AF32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7924550-9EB0-4481-9B19-67E14BD8A0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6304ABA-7CBF-4B67-A081-7620F6289A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F1310D-A0CD-4323-A5B6-D3410BEB21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6BF798-E32B-4B4F-88BF-FC91186D0A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5385DC-77F2-43C1-A82B-08C406200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6D7B96-AC6F-4D0E-B0A1-BB3E772AE4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1E73B-EEA4-439E-8C0A-E4B2729A0E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346BDC-65DD-4264-A80A-EA3E4AC163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E50B5-A475-4C4F-A8AC-957F682B4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F8F378-62F7-4524-95F5-8380EA260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48DFAF-AFC2-4014-A77B-99C1292DE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6F9D4-B91D-4E9D-A378-A357680841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E518A-5854-4690-8BD6-E3C7D85C15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1DC208-07D8-4C23-9FBB-0A897FAAF8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55A920-68D4-4D82-AD80-981B574809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511B5459-22A4-4B53-9D06-4A2F0CE6EBA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FAE8BF5F-0F4D-4BAE-A0AA-7B7658BE581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D355CAB2-220D-49AF-8053-DC5F45CD127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68779E8-87A9-4D4E-A1B5-AE45905CE04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AD3A794C-045C-4469-8098-27E399CCC5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E3F22E-2F70-463C-A7A8-2347B4615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67BF0F5C-388E-4C95-9D2E-E333128A4E1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4EB5CD4C-2DF0-4830-861F-543BC712C5E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0432D16-D645-4F82-AD22-292FF459B9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28C7251-7FE7-48D4-80E7-22C203FEF53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FE7A395-C7E1-490F-A479-452F232BE48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36345923-54BA-4732-9ADC-ACFA188646B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F1199FCF-8735-42BC-B4E9-7E908A9AF82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716742B-60E9-4F6C-B6B0-A99E6481C6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E8C6E83-FD4A-4C46-8963-538F568490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A07C667-B081-4307-82B4-52BAC6176B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146376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 name="Прямая соединительная линия 7"/>
          <p:cNvSpPr/>
          <p:nvPr/>
        </p:nvSpPr>
        <p:spPr>
          <a:xfrm>
            <a:off x="470844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 name="Овал 10"/>
          <p:cNvSpPr/>
          <p:nvPr/>
        </p:nvSpPr>
        <p:spPr>
          <a:xfrm>
            <a:off x="4540320" y="3525840"/>
            <a:ext cx="46080" cy="46080"/>
          </a:xfrm>
          <a:prstGeom prst="ellipse">
            <a:avLst/>
          </a:prstGeom>
          <a:solidFill>
            <a:srgbClr val="e40059"/>
          </a:solidFill>
          <a:ln w="38160">
            <a:solidFill>
              <a:srgbClr val="e4005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 name="PlaceHolder 3"/>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F104-BF9B-441A-A2C4-7C483FF5ADE7}"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7" name="PlaceHolder 5"/>
          <p:cNvSpPr>
            <a:spLocks noGrp="1"/>
          </p:cNvSpPr>
          <p:nvPr>
            <p:ph type="ftr" idx="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83" name="PlaceHolder 3"/>
          <p:cNvSpPr>
            <a:spLocks noGrp="1"/>
          </p:cNvSpPr>
          <p:nvPr>
            <p:ph type="dt" idx="2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type="sldNum" idx="2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4128-1F44-4D8F-8366-8E4D9D7DF8CE}"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85" name="PlaceHolder 5"/>
          <p:cNvSpPr>
            <a:spLocks noGrp="1"/>
          </p:cNvSpPr>
          <p:nvPr>
            <p:ph type="ftr" idx="3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22" name=""/>
          <p:cNvGrpSpPr/>
          <p:nvPr/>
        </p:nvGrpSpPr>
        <p:grpSpPr>
          <a:xfrm>
            <a:off x="0" y="0"/>
            <a:ext cx="9144000" cy="6856560"/>
            <a:chOff x="0" y="0"/>
            <a:chExt cx="9144000" cy="6856560"/>
          </a:xfrm>
        </p:grpSpPr>
        <p:sp>
          <p:nvSpPr>
            <p:cNvPr id="42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5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9" name=""/>
            <p:cNvGrpSpPr/>
            <p:nvPr/>
          </p:nvGrpSpPr>
          <p:grpSpPr>
            <a:xfrm>
              <a:off x="0" y="2590920"/>
              <a:ext cx="9140760" cy="2949480"/>
              <a:chOff x="0" y="2590920"/>
              <a:chExt cx="9140760" cy="2949480"/>
            </a:xfrm>
          </p:grpSpPr>
          <p:sp>
            <p:nvSpPr>
              <p:cNvPr id="46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6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5C56-8D1E-4863-84CA-4C5FA10B1552}"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3" name=""/>
          <p:cNvGrpSpPr/>
          <p:nvPr/>
        </p:nvGrpSpPr>
        <p:grpSpPr>
          <a:xfrm>
            <a:off x="0" y="0"/>
            <a:ext cx="9144000" cy="6856560"/>
            <a:chOff x="0" y="0"/>
            <a:chExt cx="9144000" cy="6856560"/>
          </a:xfrm>
        </p:grpSpPr>
        <p:sp>
          <p:nvSpPr>
            <p:cNvPr id="50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2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3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0" name=""/>
            <p:cNvGrpSpPr/>
            <p:nvPr/>
          </p:nvGrpSpPr>
          <p:grpSpPr>
            <a:xfrm>
              <a:off x="0" y="2590920"/>
              <a:ext cx="9140760" cy="2949480"/>
              <a:chOff x="0" y="2590920"/>
              <a:chExt cx="9140760" cy="2949480"/>
            </a:xfrm>
          </p:grpSpPr>
          <p:sp>
            <p:nvSpPr>
              <p:cNvPr id="54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FF7F-9063-4BEA-9421-8C259B6A1A0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7"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4A11-3F70-48A4-AE7E-2641CBCC8E83}"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ая соединительная линия 6"/>
          <p:cNvSpPr/>
          <p:nvPr/>
        </p:nvSpPr>
        <p:spPr>
          <a:xfrm>
            <a:off x="563400" y="2179800"/>
            <a:ext cx="374832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 name="Прямая соединительная линия 7"/>
          <p:cNvSpPr/>
          <p:nvPr/>
        </p:nvSpPr>
        <p:spPr>
          <a:xfrm>
            <a:off x="4754520" y="2179800"/>
            <a:ext cx="374976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0"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5988-FD25-428B-921D-9955CA732CC3}"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91"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CFA6-F209-4A17-A971-18E47842501E}"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89D2-95E2-4E0E-89B4-587E4F3CF129}"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6"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8CBE-3AB0-4F86-AA69-46C272840997}"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8"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58" name="PlaceHolder 3"/>
          <p:cNvSpPr>
            <a:spLocks noGrp="1"/>
          </p:cNvSpPr>
          <p:nvPr>
            <p:ph type="dt" idx="1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4"/>
          <p:cNvSpPr>
            <a:spLocks noGrp="1"/>
          </p:cNvSpPr>
          <p:nvPr>
            <p:ph type="ftr" idx="2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5"/>
          <p:cNvSpPr>
            <a:spLocks noGrp="1"/>
          </p:cNvSpPr>
          <p:nvPr>
            <p:ph type="sldNum" idx="2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C75A-886A-400B-9F4D-ECF4721C8811}"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01" name="PlaceHolder 3"/>
          <p:cNvSpPr>
            <a:spLocks noGrp="1"/>
          </p:cNvSpPr>
          <p:nvPr>
            <p:ph type="sldNum" idx="2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77ED-5C59-4617-9004-3496D6EDEF42}"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02" name="PlaceHolder 4"/>
          <p:cNvSpPr>
            <a:spLocks noGrp="1"/>
          </p:cNvSpPr>
          <p:nvPr>
            <p:ph type="ftr" idx="2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5"/>
          <p:cNvSpPr>
            <a:spLocks noGrp="1"/>
          </p:cNvSpPr>
          <p:nvPr>
            <p:ph type="dt" idx="2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42"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type="sldNum" idx="2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2DD9-5E08-4912-A40D-44B5AE1F97E3}"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44" name="PlaceHolder 5"/>
          <p:cNvSpPr>
            <a:spLocks noGrp="1"/>
          </p:cNvSpPr>
          <p:nvPr>
            <p:ph type="ftr" idx="2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topildiev@mail.ru"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2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
          <p:cNvSpPr/>
          <p:nvPr/>
        </p:nvSpPr>
        <p:spPr>
          <a:xfrm>
            <a:off x="611280" y="2707560"/>
            <a:ext cx="8137440" cy="1982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ЎЗБЕКИСТОН РЕСПУБЛИКАСИ ПРЕЗИДЕНТИНИНГ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ФАРМОНЛАРИ</a:t>
            </a:r>
            <a:r>
              <a:rPr b="1" i="1" lang="ru-RU" sz="3200" spc="-1" strike="noStrike">
                <a:solidFill>
                  <a:srgbClr val="ffffff"/>
                </a:solidFill>
                <a:latin typeface="Arial"/>
              </a:rPr>
              <a:t> ВА </a:t>
            </a:r>
            <a:r>
              <a:rPr b="1" i="1" lang="uz-Cyrl-UZ" sz="3200" spc="-1" strike="noStrike">
                <a:solidFill>
                  <a:srgbClr val="ffffff"/>
                </a:solidFill>
                <a:latin typeface="Arial"/>
              </a:rPr>
              <a:t>ҚАРОРЛАР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 </a:t>
            </a:r>
            <a:endParaRPr b="0" lang="en-US" sz="2800" spc="-1" strike="noStrike">
              <a:solidFill>
                <a:srgbClr val="ffffff"/>
              </a:solidFill>
              <a:latin typeface="Arial"/>
            </a:endParaRPr>
          </a:p>
        </p:txBody>
      </p:sp>
      <p:sp>
        <p:nvSpPr>
          <p:cNvPr id="584" name=""/>
          <p:cNvSpPr/>
          <p:nvPr/>
        </p:nvSpPr>
        <p:spPr>
          <a:xfrm>
            <a:off x="4067280" y="5463000"/>
            <a:ext cx="4535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ю.ф.н., доцент  В.Р.Топилдие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1"/>
              </a:rPr>
              <a:t>vtopildiev@mail.ru</a:t>
            </a:r>
            <a:endParaRPr b="0" lang="en-US" sz="2000" spc="-1" strike="noStrike">
              <a:solidFill>
                <a:srgbClr val="ffffff"/>
              </a:solidFill>
              <a:latin typeface="Arial"/>
            </a:endParaRPr>
          </a:p>
        </p:txBody>
      </p:sp>
      <p:pic>
        <p:nvPicPr>
          <p:cNvPr id="585" name="Рисунок 4" descr="images_38[1].jpg"/>
          <p:cNvPicPr/>
          <p:nvPr/>
        </p:nvPicPr>
        <p:blipFill>
          <a:blip r:embed="rId2"/>
          <a:stretch/>
        </p:blipFill>
        <p:spPr>
          <a:xfrm>
            <a:off x="0" y="0"/>
            <a:ext cx="7711920" cy="2138400"/>
          </a:xfrm>
          <a:prstGeom prst="rect">
            <a:avLst/>
          </a:prstGeom>
          <a:ln w="0">
            <a:noFill/>
          </a:ln>
        </p:spPr>
      </p:pic>
      <p:sp>
        <p:nvSpPr>
          <p:cNvPr id="586" name="Oval 9"/>
          <p:cNvSpPr/>
          <p:nvPr/>
        </p:nvSpPr>
        <p:spPr>
          <a:xfrm>
            <a:off x="7596360" y="189000"/>
            <a:ext cx="1547640" cy="15112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07" name="Двойная стрелка влево/вправо 3"/>
          <p:cNvGrpSpPr/>
          <p:nvPr/>
        </p:nvGrpSpPr>
        <p:grpSpPr>
          <a:xfrm>
            <a:off x="684360" y="0"/>
            <a:ext cx="7919640" cy="2146320"/>
            <a:chOff x="684360" y="0"/>
            <a:chExt cx="7919640" cy="2146320"/>
          </a:xfrm>
        </p:grpSpPr>
        <p:pic>
          <p:nvPicPr>
            <p:cNvPr id="60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60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3300"/>
                  </a:solidFill>
                  <a:latin typeface="Arial"/>
                </a:rPr>
                <a:t>Ўзбекистон Республикаси Вазирлар Маҳкамаси</a:t>
              </a:r>
              <a:r>
                <a:rPr b="0" i="1" lang="uz-Cyrl-UZ" sz="1800" spc="-1" strike="noStrike">
                  <a:solidFill>
                    <a:srgbClr val="ffffff"/>
                  </a:solidFill>
                  <a:latin typeface="Arial"/>
                </a:rPr>
                <a:t> </a:t>
              </a:r>
              <a:r>
                <a:rPr b="1" i="1" lang="ru-RU" sz="2800" spc="-1" strike="noStrike">
                  <a:solidFill>
                    <a:srgbClr val="ff3300"/>
                  </a:solidFill>
                  <a:latin typeface="Arial"/>
                </a:rPr>
                <a:t>:</a:t>
              </a:r>
              <a:r>
                <a:rPr b="0" i="1" lang="ru-RU" sz="2700" spc="-1" strike="noStrike">
                  <a:solidFill>
                    <a:srgbClr val="ff3300"/>
                  </a:solidFill>
                  <a:latin typeface="Arial"/>
                </a:rPr>
                <a:t> </a:t>
              </a:r>
              <a:r>
                <a:rPr b="1" i="1" lang="ru-RU" sz="2700" spc="-1" strike="noStrike">
                  <a:solidFill>
                    <a:srgbClr val="ff3300"/>
                  </a:solidFill>
                  <a:latin typeface="Arial"/>
                </a:rPr>
                <a:t> </a:t>
              </a:r>
              <a:r>
                <a:rPr b="0" i="1"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10" name=""/>
          <p:cNvSpPr/>
          <p:nvPr/>
        </p:nvSpPr>
        <p:spPr>
          <a:xfrm>
            <a:off x="539640" y="239940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У</a:t>
            </a:r>
            <a:r>
              <a:rPr b="0" lang="ru-RU" sz="2400" spc="-1" strike="noStrike">
                <a:solidFill>
                  <a:srgbClr val="ffffff"/>
                </a:solidFill>
                <a:latin typeface="Arial"/>
              </a:rPr>
              <a:t>мум қабул қилинган халқаро стандартларга мувофиқ “магистр” даражасини бериш бўйича диссертация иши мазмуни ва сифатига қўйиладиган янги мезонлар ва талаблар ишлаб чиқ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400" spc="-1" strike="noStrike">
                <a:solidFill>
                  <a:srgbClr val="ffffff"/>
                </a:solidFill>
                <a:latin typeface="Arial"/>
              </a:rPr>
              <a:t>2.Х</a:t>
            </a:r>
            <a:r>
              <a:rPr b="0" lang="ru-RU" sz="2400" spc="-1" strike="noStrike">
                <a:solidFill>
                  <a:srgbClr val="ffffff"/>
                </a:solidFill>
                <a:latin typeface="Arial"/>
              </a:rPr>
              <a:t>алқаро тажрибани ҳисобга олган ҳолда, олий ўқув юртидан кейинги таълимни ташкил эт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3.Д</a:t>
            </a:r>
            <a:r>
              <a:rPr b="0" lang="ru-RU" sz="2400" spc="-1" strike="noStrike">
                <a:solidFill>
                  <a:srgbClr val="ffffff"/>
                </a:solidFill>
                <a:latin typeface="Arial"/>
              </a:rPr>
              <a:t>окторлик диссертациясини тайёрлаш ва ҳимоя қил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
          <p:cNvSpPr/>
          <p:nvPr/>
        </p:nvSpPr>
        <p:spPr>
          <a:xfrm>
            <a:off x="611280" y="692280"/>
            <a:ext cx="81374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 П</a:t>
            </a:r>
            <a:r>
              <a:rPr b="0" lang="ru-RU" sz="2200" spc="-1" strike="noStrike">
                <a:solidFill>
                  <a:srgbClr val="ffffff"/>
                </a:solidFill>
                <a:latin typeface="Arial"/>
              </a:rPr>
              <a:t>рофессор, доцент ва катта илмий ходим илмий унвонларини олиш учун қўйиладиган янги талаблар</a:t>
            </a:r>
            <a:r>
              <a:rPr b="0" lang="uz-Cyrl-UZ" sz="2200" spc="-1" strike="noStrike">
                <a:solidFill>
                  <a:srgbClr val="ffffff"/>
                </a:solidFill>
                <a:latin typeface="Arial"/>
              </a:rPr>
              <a:t>ни</a:t>
            </a:r>
            <a:r>
              <a:rPr b="0" lang="ru-RU" sz="2200" spc="-1" strike="noStrike">
                <a:solidFill>
                  <a:srgbClr val="ffffff"/>
                </a:solidFill>
                <a:latin typeface="Arial"/>
              </a:rPr>
              <a:t> ишлаб чиқиш ва тасдиқла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a:t>
            </a:r>
            <a:r>
              <a:rPr b="0" lang="ru-RU" sz="2200" spc="-1" strike="noStrike">
                <a:solidFill>
                  <a:srgbClr val="ffffff"/>
                </a:solidFill>
                <a:latin typeface="Arial"/>
              </a:rPr>
              <a:t> </a:t>
            </a:r>
            <a:r>
              <a:rPr b="0" lang="uz-Cyrl-UZ" sz="2200" spc="-1" strike="noStrike">
                <a:solidFill>
                  <a:srgbClr val="ffffff"/>
                </a:solidFill>
                <a:latin typeface="Arial"/>
              </a:rPr>
              <a:t>Ҳ</a:t>
            </a:r>
            <a:r>
              <a:rPr b="0" lang="ru-RU" sz="2200" spc="-1" strike="noStrike">
                <a:solidFill>
                  <a:srgbClr val="ffffff"/>
                </a:solidFill>
                <a:latin typeface="Arial"/>
              </a:rPr>
              <a:t>имоя қилинаётган диссертациялар, уларнинг илмий ва амалий аҳамияти ҳақида оммавий ахборот воситалари орқали эълон қилиш амалиётини жорий эти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 Ўзбекистон Республикаси </a:t>
            </a:r>
            <a:r>
              <a:rPr b="0" lang="ru-RU" sz="2200" spc="-1" strike="noStrike">
                <a:solidFill>
                  <a:srgbClr val="ffffff"/>
                </a:solidFill>
                <a:latin typeface="Arial"/>
              </a:rPr>
              <a:t>Вазирлар Маҳкамаси ҳузуридаги Олий аттестация комиссиясининг фаолиятида очиқлик ва шаффофликни таъминлаб, ортиқча бюрократик жараёнларни йўқоти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7.</a:t>
            </a:r>
            <a:r>
              <a:rPr b="0" lang="ru-RU" sz="2200" spc="-1" strike="noStrike">
                <a:solidFill>
                  <a:srgbClr val="ffffff"/>
                </a:solidFill>
                <a:latin typeface="Arial"/>
              </a:rPr>
              <a:t> </a:t>
            </a:r>
            <a:r>
              <a:rPr b="0" lang="uz-Cyrl-UZ" sz="2200" spc="-1" strike="noStrike">
                <a:solidFill>
                  <a:srgbClr val="ffffff"/>
                </a:solidFill>
                <a:latin typeface="Arial"/>
              </a:rPr>
              <a:t>Я</a:t>
            </a:r>
            <a:r>
              <a:rPr b="0" lang="ru-RU" sz="2200" spc="-1" strike="noStrike">
                <a:solidFill>
                  <a:srgbClr val="ffffff"/>
                </a:solidFill>
                <a:latin typeface="Arial"/>
              </a:rPr>
              <a:t>нги талабларни ҳисобга олган ҳолда  </a:t>
            </a:r>
            <a:r>
              <a:rPr b="0" lang="uz-Cyrl-UZ" sz="2200" spc="-1" strike="noStrike">
                <a:solidFill>
                  <a:srgbClr val="ffffff"/>
                </a:solidFill>
                <a:latin typeface="Arial"/>
              </a:rPr>
              <a:t>ОАКнинг </a:t>
            </a:r>
            <a:r>
              <a:rPr b="0" lang="ru-RU" sz="2200" spc="-1" strike="noStrike">
                <a:solidFill>
                  <a:srgbClr val="ffffff"/>
                </a:solidFill>
                <a:latin typeface="Arial"/>
              </a:rPr>
              <a:t>тузилмасини оптималлаштириш ва фаолиятини ташкил этишни такомиллаштириш бўйича чоралар кўр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2" name=""/>
          <p:cNvSpPr/>
          <p:nvPr/>
        </p:nvSpPr>
        <p:spPr>
          <a:xfrm>
            <a:off x="539640" y="2414520"/>
            <a:ext cx="8137800" cy="3324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800" spc="-1" strike="noStrike">
                <a:solidFill>
                  <a:srgbClr val="ffffff"/>
                </a:solidFill>
                <a:latin typeface="Arial"/>
              </a:rPr>
              <a:t>Олий таълим муассасаларининг раҳбар ва педагог кадрларини қайта тайёрлаш ва малакасини ошириш тизимини янада такомиллаштириш чора-тадбирлари тўғрисида</a:t>
            </a:r>
            <a:r>
              <a:rPr b="1" lang="uz-Cyrl-UZ" sz="2800" spc="-1" strike="noStrike">
                <a:solidFill>
                  <a:srgbClr val="ffffff"/>
                </a:solidFill>
                <a:latin typeface="Arial"/>
              </a:rPr>
              <a:t>”</a:t>
            </a:r>
            <a:r>
              <a:rPr b="1" lang="ru-RU" sz="2800" spc="-1" strike="noStrike">
                <a:solidFill>
                  <a:srgbClr val="ffffff"/>
                </a:solidFill>
                <a:latin typeface="Arial"/>
              </a:rPr>
              <a:t>г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12.06. 2015 йилдаги № 4732 сонл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13"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4" name="AutoShape 4"/>
          <p:cNvSpPr/>
          <p:nvPr/>
        </p:nvSpPr>
        <p:spPr>
          <a:xfrm>
            <a:off x="179280" y="2708280"/>
            <a:ext cx="8964720" cy="309708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611280" y="3357720"/>
            <a:ext cx="806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ffffff"/>
                </a:solidFill>
                <a:latin typeface="Arial"/>
              </a:rPr>
              <a:t>Олий ўқув юртлари профессор-ўқитувчиларининг касб даражаси ва малакасини муттасил ошириб бориш, уларни замонавий талабларга мувофиқ мунтазам қайта тайёрлашнинг такомиллаштирилган тизимини жорий этиш асосида юқори малакали мутахассислар тайёрлаш сифатини тубдан ошириш</a:t>
            </a:r>
            <a:r>
              <a:rPr b="1" lang="ru-RU" sz="2200" spc="-1" strike="noStrike">
                <a:solidFill>
                  <a:srgbClr val="ffffff"/>
                </a:solidFill>
                <a:latin typeface="Arial"/>
              </a:rPr>
              <a:t>. </a:t>
            </a:r>
            <a:endParaRPr b="0" lang="en-US" sz="2200" spc="-1" strike="noStrike">
              <a:solidFill>
                <a:srgbClr val="ffffff"/>
              </a:solidFill>
              <a:latin typeface="Arial"/>
            </a:endParaRPr>
          </a:p>
        </p:txBody>
      </p:sp>
      <p:sp>
        <p:nvSpPr>
          <p:cNvPr id="618"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
          <p:cNvSpPr/>
          <p:nvPr/>
        </p:nvSpPr>
        <p:spPr>
          <a:xfrm>
            <a:off x="539640" y="456840"/>
            <a:ext cx="81360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uz-Cyrl-UZ" sz="2800" spc="-1" strike="noStrike">
                <a:solidFill>
                  <a:srgbClr val="ffffff"/>
                </a:solidFill>
                <a:latin typeface="Arial"/>
              </a:rPr>
              <a:t>Қайта тайёрлаш ва малакасини ошириш </a:t>
            </a:r>
            <a:r>
              <a:rPr b="1" lang="ru-RU" sz="2800" spc="-1" strike="noStrike">
                <a:solidFill>
                  <a:srgbClr val="ffffff"/>
                </a:solidFill>
                <a:latin typeface="Arial"/>
              </a:rPr>
              <a:t> </a:t>
            </a:r>
            <a:r>
              <a:rPr b="1" lang="uz-Cyrl-UZ" sz="2800" spc="-1" strike="noStrike">
                <a:solidFill>
                  <a:srgbClr val="ffffff"/>
                </a:solidFill>
                <a:latin typeface="Arial"/>
              </a:rPr>
              <a:t>тизимини янада такомиллаштиришнинг муҳим йўналишлари: </a:t>
            </a:r>
            <a:endParaRPr b="0" lang="en-US" sz="2800" spc="-1" strike="noStrike">
              <a:solidFill>
                <a:srgbClr val="ffffff"/>
              </a:solidFill>
              <a:latin typeface="Arial"/>
            </a:endParaRPr>
          </a:p>
        </p:txBody>
      </p:sp>
      <p:sp>
        <p:nvSpPr>
          <p:cNvPr id="620" name=""/>
          <p:cNvSpPr/>
          <p:nvPr/>
        </p:nvSpPr>
        <p:spPr>
          <a:xfrm>
            <a:off x="611280" y="210024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100" spc="-1" strike="noStrike">
                <a:solidFill>
                  <a:srgbClr val="ffffff"/>
                </a:solidFill>
                <a:latin typeface="Arial"/>
              </a:rPr>
              <a:t>1.Олий ўқув юртлари профессор-ўқитувчиларининг педагогик ва касб даражасини мунтазам ошириш асосида уларнинг қонунчилик нормалари, назария, илмий ва амалий тадқиқотлар, технологик тараққиёт ва ўқитилаётган фанлар бўйича инновациялар, шунингдек, ўқув жараёнини ташкил этишнинг замонавий услублари соҳасидаги сўнгги ютуқларни чуқур ўрган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Юқори самарали замонавий таълим ва инновация технологиялари, илғор хорижий тажрибани кенг жорий этган ҳолда, олий ўқув юртларининг педагог кадрларини қайта тайёрлаш ва малакасини ошириш бўйича малака талаблари, ўқув режалари, дастур ва услубларини тубдан янгила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
          <p:cNvSpPr/>
          <p:nvPr/>
        </p:nvSpPr>
        <p:spPr>
          <a:xfrm>
            <a:off x="468360" y="1371960"/>
            <a:ext cx="83516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3</a:t>
            </a:r>
            <a:r>
              <a:rPr b="0" lang="uz-Cyrl-UZ" sz="2400" spc="-1" strike="noStrike">
                <a:solidFill>
                  <a:srgbClr val="ffffff"/>
                </a:solidFill>
                <a:latin typeface="Arial"/>
              </a:rPr>
              <a:t>.Олий ўқув юртлари ўқитувчиларининг глобал Интернет тармоғи, мультимедиа тизимлари ва масофадан ўқитиш усулларидан фойдаланган ҳолда, замонавий инновацион педагогика, ахборот-коммуникация технологияларини эгаллаши ва уларни ўқув жараёнига фаол татбиқ этиши;</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4</a:t>
            </a:r>
            <a:r>
              <a:rPr b="0" lang="uz-Cyrl-UZ" sz="2400" spc="-1" strike="noStrike">
                <a:solidFill>
                  <a:srgbClr val="ffffff"/>
                </a:solidFill>
                <a:latin typeface="Arial"/>
              </a:rPr>
              <a:t>.Олий ўқув юртлари педагог кадрларининг чет тилини амалий ўзлаштириш даражасини ошириш ва ундан ўз касб маҳорати, педагогик ва илмий фаолиятини муттасил ошириб бориши учун кенг фойдаланиш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2" name=""/>
          <p:cNvSpPr/>
          <p:nvPr/>
        </p:nvSpPr>
        <p:spPr>
          <a:xfrm>
            <a:off x="611280" y="394920"/>
            <a:ext cx="7993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Таянч олий ўқув юртларининг асосий вазифа ва фаолият йўналишлари:</a:t>
            </a:r>
            <a:r>
              <a:rPr b="0" lang="uz-Cyrl-UZ" sz="2800" spc="-1" strike="noStrike">
                <a:solidFill>
                  <a:srgbClr val="ffffff"/>
                </a:solidFill>
                <a:latin typeface="Arial"/>
              </a:rPr>
              <a:t> </a:t>
            </a:r>
            <a:endParaRPr b="0" lang="en-US" sz="2800" spc="-1" strike="noStrike">
              <a:solidFill>
                <a:srgbClr val="ffffff"/>
              </a:solidFill>
              <a:latin typeface="Arial"/>
            </a:endParaRPr>
          </a:p>
        </p:txBody>
      </p:sp>
      <p:sp>
        <p:nvSpPr>
          <p:cNvPr id="623" name=""/>
          <p:cNvSpPr/>
          <p:nvPr/>
        </p:nvSpPr>
        <p:spPr>
          <a:xfrm>
            <a:off x="755640" y="1947240"/>
            <a:ext cx="8064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Қайта тайёрлашнинг тегишли йўналишлари бўйича доимий фаолият кўрсатадиган олий ўқув юртларининг раҳбар ва педагог кадрларини қайта тайёрлаш ва малакасини ошириш курслари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Ушбу курсларда машғулотларни сифат жиҳатидан юқори ташкилий ва профессионал даражада ўтказиш учун зарур ўқув-услубий ва моддий-техник базани шаклланти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4" name=""/>
          <p:cNvSpPr/>
          <p:nvPr/>
        </p:nvSpPr>
        <p:spPr>
          <a:xfrm>
            <a:off x="611280" y="640440"/>
            <a:ext cx="82087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Олий ўқув юртининг етакчи ўқитувчиларини ва Докторлик диссертацияларини ҳимоя қилиш бўйича илмий кенгаш аъзоларини, шунингдек, мамлакатимиздаги бошқа олий ўқув юртларининг юқори малакали ўқитувчилари, хорижий мутахассислар, ўқув-услубий ходимлар ва амалиётчи мутахассисларни шартнома асосида қайта тайёрлаш ва малака ошириш курсларида ўқув машғулотларини олиб бориш учун кенг жалб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Қайта тайёрлаш йўналишлари бўйича зарур ахборот-маълумот базасини шакллантириш, замонавий инновацион педагогика, мультимедиа ва ахборот-коммуникация технологияларини ишлаб чиқиш ва қайта тайёрлаш жараёнига татбиқ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
          <p:cNvSpPr/>
          <p:nvPr/>
        </p:nvSpPr>
        <p:spPr>
          <a:xfrm>
            <a:off x="468360" y="155484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Қайта тайёрлаш ва малака ошириш курсларида ўқиётган тингловчилар учун уларнинг очиқ маърузалар ва амалий машғулотлар ўтказиши, ўтилган дарсларнинг муҳокама қилиниши ва танқидий таҳлил этилишига асосланган педагогик амалиёт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6.Курсларнинг вилоятлардан келган тингловчиларига қайта тайёрлаш ва малака ошириш даврида олий ўқув юртлари турар-жойларидан жой ажратиш бўйича чоралар кў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6" name=""/>
          <p:cNvSpPr/>
          <p:nvPr/>
        </p:nvSpPr>
        <p:spPr>
          <a:xfrm>
            <a:off x="684360" y="333360"/>
            <a:ext cx="80643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Ўзбекистон Республикаси Вазирлар Маҳкамаси ҳузурида доимий фаолият юритадиган</a:t>
            </a:r>
            <a:r>
              <a:rPr b="1" i="1" lang="uz-Cyrl-UZ" sz="2800" spc="-1" strike="noStrike">
                <a:solidFill>
                  <a:srgbClr val="ffffff"/>
                </a:solidFill>
                <a:latin typeface="Arial"/>
              </a:rPr>
              <a:t> </a:t>
            </a:r>
            <a:r>
              <a:rPr b="1" i="1" lang="ru-RU" sz="2800" spc="-1" strike="noStrike">
                <a:solidFill>
                  <a:srgbClr val="ffffff"/>
                </a:solidFill>
                <a:latin typeface="Arial"/>
              </a:rPr>
              <a:t>Идоралараро комиссия зиммасига қуйидаги вазифалар юкла</a:t>
            </a:r>
            <a:r>
              <a:rPr b="1" i="1" lang="uz-Cyrl-UZ" sz="2800" spc="-1" strike="noStrike">
                <a:solidFill>
                  <a:srgbClr val="ffffff"/>
                </a:solidFill>
                <a:latin typeface="Arial"/>
              </a:rPr>
              <a:t>тил</a:t>
            </a:r>
            <a:r>
              <a:rPr b="1" i="1" lang="ru-RU" sz="2800" spc="-1" strike="noStrike">
                <a:solidFill>
                  <a:srgbClr val="ffffff"/>
                </a:solidFill>
                <a:latin typeface="Arial"/>
              </a:rPr>
              <a:t>син:</a:t>
            </a:r>
            <a:endParaRPr b="0" lang="en-US" sz="2800" spc="-1" strike="noStrike">
              <a:solidFill>
                <a:srgbClr val="ffffff"/>
              </a:solidFill>
              <a:latin typeface="Arial"/>
            </a:endParaRPr>
          </a:p>
        </p:txBody>
      </p:sp>
      <p:sp>
        <p:nvSpPr>
          <p:cNvPr id="627" name=""/>
          <p:cNvSpPr/>
          <p:nvPr/>
        </p:nvSpPr>
        <p:spPr>
          <a:xfrm>
            <a:off x="539640" y="2841120"/>
            <a:ext cx="83170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1.О</a:t>
            </a:r>
            <a:r>
              <a:rPr b="0" lang="ru-RU" sz="2400" spc="-1" strike="noStrike">
                <a:solidFill>
                  <a:srgbClr val="ffffff"/>
                </a:solidFill>
                <a:latin typeface="Arial"/>
              </a:rPr>
              <a:t>лий ўқув юртлари ўқитувчиларининг замонавий талабларга мувофиқ ўз касб даражасини мунтазам ошириб боришдан манфаатдорлигига алоҳида эътибор қаратган ҳолда, олий ўқув юртларининг раҳбар ва педагог кадрларини қайта тайёрлаш ва малакасини ошириш тизимини янада такомиллаштириш бўйича мазкур Фармонда кўзда тутилган вазифалар бажарилишининг тегишли назоратини таъминла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
          <p:cNvSpPr/>
          <p:nvPr/>
        </p:nvSpPr>
        <p:spPr>
          <a:xfrm>
            <a:off x="3708360" y="1918440"/>
            <a:ext cx="5256360" cy="394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uz-Cyrl-UZ" sz="2100" spc="-1" strike="noStrike">
                <a:solidFill>
                  <a:srgbClr val="ffffff"/>
                </a:solidFill>
                <a:latin typeface="Arial"/>
              </a:rPr>
              <a:t>“</a:t>
            </a:r>
            <a:r>
              <a:rPr b="1" lang="uz-Cyrl-UZ" sz="2100" spc="-1" strike="noStrike">
                <a:solidFill>
                  <a:srgbClr val="ffffff"/>
                </a:solidFill>
                <a:latin typeface="Arial"/>
              </a:rPr>
              <a:t>Қонунга оғишмай итоат этилган жамиятдагина демократия қарор топади. Зеро, қонун - ҳуқуқий давлатнинг пойдеворидир, қонунийлик ва ҳуқуқ - тартибот эса унинг асосий принципи ва зарур шартидир. Шунинг учун ҳам ҳуқуқий давлатнинг энг олий сўзи ҳам, обрў - мартабаси ҳам, қалби, тан-жони ҳам, хуллас, тириклиги ҳам қонундир”.</a:t>
            </a:r>
            <a:endParaRPr b="0" lang="en-US" sz="21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200" spc="-1" strike="noStrike">
                <a:solidFill>
                  <a:srgbClr val="ffffff"/>
                </a:solidFill>
                <a:latin typeface="Tahoma"/>
              </a:rPr>
              <a:t>И.А.Каримов </a:t>
            </a:r>
            <a:endParaRPr b="0" lang="en-US" sz="2200" spc="-1" strike="noStrike">
              <a:solidFill>
                <a:srgbClr val="ffffff"/>
              </a:solidFill>
              <a:latin typeface="Arial"/>
            </a:endParaRPr>
          </a:p>
        </p:txBody>
      </p:sp>
      <p:pic>
        <p:nvPicPr>
          <p:cNvPr id="588" name="" descr=""/>
          <p:cNvPicPr/>
          <p:nvPr/>
        </p:nvPicPr>
        <p:blipFill>
          <a:blip r:embed="rId1"/>
          <a:stretch/>
        </p:blipFill>
        <p:spPr>
          <a:xfrm>
            <a:off x="0" y="1916280"/>
            <a:ext cx="3564000" cy="4176720"/>
          </a:xfrm>
          <a:prstGeom prst="rect">
            <a:avLst/>
          </a:prstGeom>
          <a:ln w="0">
            <a:noFill/>
          </a:ln>
        </p:spPr>
      </p:pic>
      <p:pic>
        <p:nvPicPr>
          <p:cNvPr id="589" name="Picture 5" descr="C:\Users\Латыпов\Desktop\gerb.gif"/>
          <p:cNvPicPr/>
          <p:nvPr/>
        </p:nvPicPr>
        <p:blipFill>
          <a:blip r:embed="rId2"/>
          <a:stretch/>
        </p:blipFill>
        <p:spPr>
          <a:xfrm>
            <a:off x="0" y="260280"/>
            <a:ext cx="914400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8" name=""/>
          <p:cNvSpPr/>
          <p:nvPr/>
        </p:nvSpPr>
        <p:spPr>
          <a:xfrm>
            <a:off x="468360" y="1006200"/>
            <a:ext cx="820728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 фаолиятини мувофиқлаштириш, уларнинг ўқув-услубий ва моддий-техник базасини янада ривожлантириш ҳамда мустаҳкамлашга кўмаклаш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З</a:t>
            </a:r>
            <a:r>
              <a:rPr b="0" lang="ru-RU" sz="2400" spc="-1" strike="noStrike">
                <a:solidFill>
                  <a:srgbClr val="ffffff"/>
                </a:solidFill>
                <a:latin typeface="Arial"/>
              </a:rPr>
              <a:t>амонавий талаблар ҳисобга олинган ҳолда, олий ўқув юртларининг педагог кадрларини қайта тайёрлаш йўналишлари бўйича қайта тайёрлаш ва малака оширишнинг ўқув режалари ҳамда дастурларини мунтазам такомиллаштириб бориш ишлари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
          <p:cNvSpPr/>
          <p:nvPr/>
        </p:nvSpPr>
        <p:spPr>
          <a:xfrm>
            <a:off x="468360" y="276480"/>
            <a:ext cx="8280360" cy="631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П</a:t>
            </a:r>
            <a:r>
              <a:rPr b="0" lang="ru-RU" sz="2400" spc="-1" strike="noStrike">
                <a:solidFill>
                  <a:srgbClr val="ffffff"/>
                </a:solidFill>
                <a:latin typeface="Arial"/>
              </a:rPr>
              <a:t>едагог кадрларни қайта тайёрлаш жараёнини қатъий тартибга солиш учун профессор-ўқитувчилари тегишли қайта тайёрлаш йўналишлари бўйича қайта тайёрлашдан ўтадиган ва малакасини оширадиган олий ўқув юртларининг тегишли кафедраларини муайян Таянч олий ўқув юртларига бириктириш, бунда Таянч олий ўқув юрти ва мамлакатимиз олий ўқув юртларининг тегишли кафедралари ўртасида доимий муносабатлар ўрнатилишини назарда ту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даги аттестация комиссияларининг шахсий таркибини шакллантириш ва тасдиқлаш, ҳар йил уларнинг ҳисоботларини доимий тинглаш ва зарур ҳолларда, улар таркибига ўзгартишлар кири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0" name=""/>
          <p:cNvSpPr/>
          <p:nvPr/>
        </p:nvSpPr>
        <p:spPr>
          <a:xfrm>
            <a:off x="539640" y="2607120"/>
            <a:ext cx="8278920" cy="314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a:t>
            </a:r>
            <a:r>
              <a:rPr b="1" lang="uz-Cyrl-UZ" sz="2800" spc="-1" strike="noStrike">
                <a:solidFill>
                  <a:srgbClr val="ffffff"/>
                </a:solidFill>
                <a:latin typeface="Arial"/>
              </a:rPr>
              <a:t>Олий таълим муассасаларининг моддий-техника базасини мустаҳкамлаш ва юқори малакали мутахассислар тайёрлаш сифатини тубдан яхшилаш чора-тадбирлари тўғрисида”ги  05.20.2011 йил </a:t>
            </a:r>
            <a:r>
              <a:rPr b="0" lang="uz-Cyrl-UZ" sz="2800" spc="-1" strike="noStrike">
                <a:solidFill>
                  <a:srgbClr val="ffffff"/>
                </a:solidFill>
                <a:latin typeface="Arial"/>
              </a:rPr>
              <a:t> </a:t>
            </a:r>
            <a:r>
              <a:rPr b="1" lang="ru-RU" sz="2800" spc="-1" strike="noStrike">
                <a:solidFill>
                  <a:srgbClr val="ffffff"/>
                </a:solidFill>
                <a:latin typeface="Arial"/>
              </a:rPr>
              <a:t>№</a:t>
            </a:r>
            <a:r>
              <a:rPr b="1" lang="uz-Cyrl-UZ" sz="2800" spc="-1" strike="noStrike">
                <a:solidFill>
                  <a:srgbClr val="ffffff"/>
                </a:solidFill>
                <a:latin typeface="Arial"/>
              </a:rPr>
              <a:t>1533-сонл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 </a:t>
            </a:r>
            <a:r>
              <a:rPr b="1" i="1" lang="uz-Cyrl-UZ" sz="3200" spc="-1" strike="noStrike">
                <a:solidFill>
                  <a:srgbClr val="ffffff"/>
                </a:solidFill>
                <a:latin typeface="Arial"/>
              </a:rPr>
              <a:t>ҚАРОРИ</a:t>
            </a:r>
            <a:r>
              <a:rPr b="0" i="1" lang="uz-Cyrl-UZ" sz="3200" spc="-1" strike="noStrike">
                <a:solidFill>
                  <a:srgbClr val="ffffff"/>
                </a:solidFill>
                <a:latin typeface="Arial"/>
              </a:rPr>
              <a:t> </a:t>
            </a:r>
            <a:endParaRPr b="0" lang="en-US" sz="3200" spc="-1" strike="noStrike">
              <a:solidFill>
                <a:srgbClr val="ffffff"/>
              </a:solidFill>
              <a:latin typeface="Arial"/>
            </a:endParaRPr>
          </a:p>
        </p:txBody>
      </p:sp>
      <p:pic>
        <p:nvPicPr>
          <p:cNvPr id="631" name="Picture 5" descr="C:\Users\Латыпов\Desktop\gerb.gif"/>
          <p:cNvPicPr/>
          <p:nvPr/>
        </p:nvPicPr>
        <p:blipFill>
          <a:blip r:embed="rId1"/>
          <a:stretch/>
        </p:blipFill>
        <p:spPr>
          <a:xfrm>
            <a:off x="0" y="404640"/>
            <a:ext cx="9144000" cy="1584360"/>
          </a:xfrm>
          <a:prstGeom prst="rect">
            <a:avLst/>
          </a:prstGeom>
          <a:ln w="0">
            <a:noFill/>
          </a:ln>
        </p:spPr>
      </p:pic>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2" name=""/>
          <p:cNvSpPr/>
          <p:nvPr/>
        </p:nvSpPr>
        <p:spPr>
          <a:xfrm>
            <a:off x="611280" y="309600"/>
            <a:ext cx="8208720" cy="649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Қ</a:t>
            </a:r>
            <a:r>
              <a:rPr b="1" lang="ru-RU" sz="2400" spc="-1" strike="noStrike">
                <a:solidFill>
                  <a:srgbClr val="ffffff"/>
                </a:solidFill>
                <a:latin typeface="Arial"/>
              </a:rPr>
              <a:t>арор</a:t>
            </a:r>
            <a:r>
              <a:rPr b="1" lang="uz-Cyrl-UZ" sz="2400" spc="-1" strike="noStrike">
                <a:solidFill>
                  <a:srgbClr val="ffffff"/>
                </a:solidFill>
                <a:latin typeface="Arial"/>
              </a:rPr>
              <a:t>нинг мақсади</a:t>
            </a:r>
            <a:r>
              <a:rPr b="0" lang="ru-RU" sz="2400" spc="-1" strike="noStrike">
                <a:solidFill>
                  <a:srgbClr val="ffffff"/>
                </a:solidFill>
                <a:latin typeface="Arial"/>
              </a:rPr>
              <a:t>:</a:t>
            </a:r>
            <a:r>
              <a:rPr b="0" lang="uz-Cyrl-UZ" sz="2200" spc="-1" strike="noStrike">
                <a:solidFill>
                  <a:srgbClr val="ffffff"/>
                </a:solidFill>
                <a:latin typeface="Arial"/>
              </a:rPr>
              <a:t>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олий таълим муассасаларининг моддий-техника базасини мустаҳкамлаш ва модернизация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замонавий ўқув ва илмий-лаборатория жиҳозлари билан таъмин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юқори малакали кадрлар тайёрлаш таълим йўналишлари ва магистратура мутахассисликларини оптималлашти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таълим стандартларини такомиллаштириш ҳисобига таълим жараёнини сифат жиҳатдан янги босқичга кўта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илғор педагогик технологиялар ва ўқитиш шаклларини жорий эт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ўқитувчи кадрлар меҳнатини рағбатлантиришни кучайтириш</a:t>
            </a:r>
            <a:r>
              <a:rPr b="0" lang="ru-RU" sz="2200" spc="-1" strike="noStrike">
                <a:solidFill>
                  <a:srgbClr val="ffffff"/>
                </a:solidFill>
                <a:latin typeface="Tahoma"/>
              </a:rPr>
              <a:t>;</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 </a:t>
            </a:r>
            <a:r>
              <a:rPr b="0" lang="uz-Cyrl-UZ" sz="2200" spc="-1" strike="noStrike">
                <a:solidFill>
                  <a:srgbClr val="ffffff"/>
                </a:solidFill>
                <a:latin typeface="Tahoma"/>
              </a:rPr>
              <a:t>иқтисодиёт соҳа ва тармоқларида талаб қилинадиган олий маълумотга эга мутахассисларни тайёрлаш сифатини тубдан яхшилашга қаратилган.</a:t>
            </a:r>
            <a:r>
              <a:rPr b="0" lang="ru-RU" sz="2200" spc="-1" strike="noStrike">
                <a:solidFill>
                  <a:srgbClr val="ffffff"/>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
          <p:cNvSpPr/>
          <p:nvPr/>
        </p:nvSpPr>
        <p:spPr>
          <a:xfrm>
            <a:off x="755640" y="470880"/>
            <a:ext cx="79200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Қарорда қуйидаги иловалар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тасдиқланган:</a:t>
            </a:r>
            <a:r>
              <a:rPr b="1" lang="uz-Cyrl-UZ" sz="2800" spc="-1" strike="noStrike">
                <a:solidFill>
                  <a:srgbClr val="ffffff"/>
                </a:solidFill>
                <a:latin typeface="Tahoma"/>
              </a:rPr>
              <a:t> </a:t>
            </a:r>
            <a:endParaRPr b="0" lang="en-US" sz="2800" spc="-1" strike="noStrike">
              <a:solidFill>
                <a:srgbClr val="ffffff"/>
              </a:solidFill>
              <a:latin typeface="Arial"/>
            </a:endParaRPr>
          </a:p>
        </p:txBody>
      </p:sp>
      <p:sp>
        <p:nvSpPr>
          <p:cNvPr id="634" name=""/>
          <p:cNvSpPr/>
          <p:nvPr/>
        </p:nvSpPr>
        <p:spPr>
          <a:xfrm>
            <a:off x="684360" y="198756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1. 2011-2016 йилларда Олий таълим муасасаларини моддий-техник базасини мустахкамлаш ва ривожлантириш комплекс чора тадбирлари. (</a:t>
            </a:r>
            <a:r>
              <a:rPr b="0" lang="ru-RU" sz="2100" spc="-1" strike="noStrike">
                <a:solidFill>
                  <a:srgbClr val="ffffff"/>
                </a:solidFill>
                <a:latin typeface="Arial"/>
              </a:rPr>
              <a:t>1</a:t>
            </a:r>
            <a:r>
              <a:rPr b="0" lang="uz-Cyrl-UZ" sz="2100" spc="-1" strike="noStrike">
                <a:solidFill>
                  <a:srgbClr val="ffffff"/>
                </a:solidFill>
                <a:latin typeface="Arial"/>
              </a:rPr>
              <a:t> </a:t>
            </a:r>
            <a:r>
              <a:rPr b="0" lang="ru-RU" sz="2100" spc="-1" strike="noStrike">
                <a:solidFill>
                  <a:srgbClr val="ffffff"/>
                </a:solidFill>
                <a:latin typeface="Arial"/>
              </a:rPr>
              <a:t>–</a:t>
            </a:r>
            <a:r>
              <a:rPr b="0" lang="uz-Cyrl-UZ" sz="2100" spc="-1" strike="noStrike">
                <a:solidFill>
                  <a:srgbClr val="ffffff"/>
                </a:solidFill>
                <a:latin typeface="Arial"/>
              </a:rPr>
              <a:t> илова) </a:t>
            </a:r>
            <a:endParaRPr b="0" lang="en-US" sz="2100" spc="-1" strike="noStrike">
              <a:solidFill>
                <a:srgbClr val="ffffff"/>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2. 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2- Илова)</a:t>
            </a: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3.Олий таълим муассасаларининг моддий-техника базасини модернизациялаш ва мутахассислар тайёрлаш  сифатини тубдан яхшилаш дастурларини амалга оширишни молиявий харажатлар хисоби параметрлари. (3-илова)</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
          <p:cNvSpPr/>
          <p:nvPr/>
        </p:nvSpPr>
        <p:spPr>
          <a:xfrm>
            <a:off x="684360" y="1120680"/>
            <a:ext cx="8135640" cy="477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Олий таълим муассасаларини 2011-2016 йилларга мўлжалланган хар йиллик қурилиш, капитал таъмирлаш, реконструкция қилиш ва техника воситалари билан таъминлаш дастурлари рўйхати. (4-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Олий таълим муассасаларида ташкил этиладиган замонавий илмий - тадқиқот лабораториялари. (5-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Олий таълим муассасаларининг моддий-техника базасини мустаҳкамлаш ва юқори малакали мутахассислар тайёрлаш сифатини тубдан яхшилаш ва модернизациялаш дастурини амалга ошириш махсус комиссияси таркиби.(6-илов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71640" y="333000"/>
            <a:ext cx="7710480" cy="15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a:t>
            </a:r>
            <a:r>
              <a:rPr b="0" lang="uz-Cyrl-UZ" sz="2400" spc="-1" strike="noStrike">
                <a:solidFill>
                  <a:srgbClr val="ffffff"/>
                </a:solidFill>
                <a:latin typeface="Arial"/>
              </a:rPr>
              <a:t> </a:t>
            </a:r>
            <a:r>
              <a:rPr b="0" lang="ru-RU" sz="2400" spc="-1" strike="noStrike">
                <a:solidFill>
                  <a:srgbClr val="ffffff"/>
                </a:solidFill>
                <a:latin typeface="Arial"/>
              </a:rPr>
              <a:t>–</a:t>
            </a:r>
            <a:r>
              <a:rPr b="0" lang="uz-Cyrl-UZ" sz="2400" spc="-1" strike="noStrike">
                <a:solidFill>
                  <a:srgbClr val="ffffff"/>
                </a:solidFill>
                <a:latin typeface="Arial"/>
              </a:rPr>
              <a:t> илова</a:t>
            </a:r>
            <a:r>
              <a:rPr b="0" lang="ru-RU" sz="2400" spc="-1" strike="noStrike">
                <a:solidFill>
                  <a:srgbClr val="ffffff"/>
                </a:solidFill>
                <a:latin typeface="Arial"/>
              </a:rPr>
              <a:t>.</a:t>
            </a:r>
            <a:r>
              <a:rPr b="1" lang="ru-RU" sz="2400" spc="-1" strike="noStrike">
                <a:solidFill>
                  <a:srgbClr val="ffffff"/>
                </a:solidFill>
                <a:latin typeface="Arial"/>
              </a:rPr>
              <a:t> </a:t>
            </a:r>
            <a:br>
              <a:rPr sz="2400"/>
            </a:br>
            <a:r>
              <a:rPr b="1" lang="uz-Cyrl-UZ" sz="2400" spc="-1" strike="noStrike">
                <a:solidFill>
                  <a:srgbClr val="ffffff"/>
                </a:solidFill>
                <a:latin typeface="Arial"/>
              </a:rPr>
              <a:t>2011-2016 йилларда Олий таълим муасасаларини</a:t>
            </a:r>
            <a:r>
              <a:rPr b="1" lang="ru-RU" sz="2400" spc="-1" strike="noStrike">
                <a:solidFill>
                  <a:srgbClr val="ffffff"/>
                </a:solidFill>
                <a:latin typeface="Arial"/>
              </a:rPr>
              <a:t> </a:t>
            </a:r>
            <a:r>
              <a:rPr b="1" lang="uz-Cyrl-UZ" sz="2400" spc="-1" strike="noStrike">
                <a:solidFill>
                  <a:srgbClr val="ffffff"/>
                </a:solidFill>
                <a:latin typeface="Arial"/>
              </a:rPr>
              <a:t>моддий-техник базасини мустахкамлаш ва ривожлантириш</a:t>
            </a:r>
            <a:r>
              <a:rPr b="1" lang="ru-RU" sz="2400" spc="-1" strike="noStrike">
                <a:solidFill>
                  <a:srgbClr val="ffffff"/>
                </a:solidFill>
                <a:latin typeface="Arial"/>
              </a:rPr>
              <a:t>нинг</a:t>
            </a:r>
            <a:r>
              <a:rPr b="1" lang="uz-Cyrl-UZ" sz="2400" spc="-1" strike="noStrike">
                <a:solidFill>
                  <a:srgbClr val="ffffff"/>
                </a:solidFill>
                <a:latin typeface="Arial"/>
              </a:rPr>
              <a:t> комплекс чора - тадбирлари. </a:t>
            </a:r>
            <a:endParaRPr b="0" lang="en-US" sz="2400" spc="-1" strike="noStrike">
              <a:solidFill>
                <a:srgbClr val="ffffff"/>
              </a:solidFill>
              <a:latin typeface="Arial"/>
            </a:endParaRPr>
          </a:p>
        </p:txBody>
      </p:sp>
      <p:sp>
        <p:nvSpPr>
          <p:cNvPr id="637" name=""/>
          <p:cNvSpPr/>
          <p:nvPr/>
        </p:nvSpPr>
        <p:spPr>
          <a:xfrm>
            <a:off x="611280" y="2133720"/>
            <a:ext cx="82818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1.</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 базасида замонавий ўқув лабораторияларни модернизациялаш  ва ташкил этиш;</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2.Ўқув жараёнига комьютер технологияларини татбиқ этиш, олий таълим муассасалариаро ягона ком</a:t>
            </a:r>
            <a:r>
              <a:rPr b="0" lang="ru-RU" sz="2000" spc="-1" strike="noStrike">
                <a:solidFill>
                  <a:srgbClr val="ffffff"/>
                </a:solidFill>
                <a:latin typeface="Arial"/>
              </a:rPr>
              <a:t>ьп</a:t>
            </a:r>
            <a:r>
              <a:rPr b="0" lang="uz-Cyrl-UZ" sz="2000" spc="-1" strike="noStrike">
                <a:solidFill>
                  <a:srgbClr val="ffffff"/>
                </a:solidFill>
                <a:latin typeface="Arial"/>
              </a:rPr>
              <a:t>ютер тармоғини ташкил этиш ва олий таълим муассасаларини замонавий жиҳозлар, комьютер техникаси ва комуникация тизимлари билан таъмин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3.</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да спорт билан шуғулланиш ва талабаларни яшаш шароитларини хамда ўқитувчиларни мехнат қилиши учун шарт-шароитларни яхши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4.Молиялаштиришни таъминлаш ва комплекс чора-тадбирлар бажарилиши мониторингини олиб бориш.</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8" name=""/>
          <p:cNvSpPr/>
          <p:nvPr/>
        </p:nvSpPr>
        <p:spPr>
          <a:xfrm>
            <a:off x="684360" y="2781360"/>
            <a:ext cx="803592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1.Олий таълим йўналишлари ва магистратура мутахассисликларини оптималлаштириш, давлат таълим стандартларини такомиллаштириш, талаб қилинадиган олий маълумотга эга мутахассисларни тайёрлаш сифатини ва ўқув жараёнини тубдан яхшилаш; </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Педагог кадрларни қайта тайёрлаш ва малакасини ошириш тизимини такомиллаштириш, уларни моддий қўллаб-қувватлаш, хорижий мамлакатларнинг нуфузли илмий ва таълим муассасаларида ёш малакали кадрларни стажировкасини ташкил этиш.</a:t>
            </a:r>
            <a:endParaRPr b="0" lang="en-US" sz="2100" spc="-1" strike="noStrike">
              <a:solidFill>
                <a:srgbClr val="ffffff"/>
              </a:solidFill>
              <a:latin typeface="Arial"/>
            </a:endParaRPr>
          </a:p>
        </p:txBody>
      </p:sp>
      <p:sp>
        <p:nvSpPr>
          <p:cNvPr id="639" name=""/>
          <p:cNvSpPr/>
          <p:nvPr/>
        </p:nvSpPr>
        <p:spPr>
          <a:xfrm>
            <a:off x="539640" y="333360"/>
            <a:ext cx="8209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1" lang="uz-Cyrl-UZ" sz="2400" spc="-1" strike="noStrike">
                <a:solidFill>
                  <a:srgbClr val="ffffff"/>
                </a:solidFill>
                <a:latin typeface="Arial"/>
              </a:rPr>
              <a:t>2- Илов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468360" y="3141720"/>
            <a:ext cx="8229600" cy="151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ЭЪТИБОРИНГИЗ УЧУН РАХМАТ !</a:t>
            </a:r>
            <a:endParaRPr b="0" lang="en-US" sz="4800" spc="-1" strike="noStrike">
              <a:solidFill>
                <a:srgbClr val="ffffff"/>
              </a:solidFill>
              <a:latin typeface="Arial"/>
            </a:endParaRPr>
          </a:p>
        </p:txBody>
      </p:sp>
      <p:pic>
        <p:nvPicPr>
          <p:cNvPr id="641" name="Picture 5" descr="uz1"/>
          <p:cNvPicPr/>
          <p:nvPr/>
        </p:nvPicPr>
        <p:blipFill>
          <a:blip r:embed="rId1"/>
          <a:stretch/>
        </p:blipFill>
        <p:spPr>
          <a:xfrm>
            <a:off x="5219640" y="620640"/>
            <a:ext cx="3311640" cy="16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0" name=""/>
          <p:cNvSpPr/>
          <p:nvPr/>
        </p:nvSpPr>
        <p:spPr>
          <a:xfrm>
            <a:off x="539640" y="2719080"/>
            <a:ext cx="8137800" cy="271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400" spc="-1" strike="noStrike">
                <a:solidFill>
                  <a:srgbClr val="ffffff"/>
                </a:solidFill>
                <a:latin typeface="Arial"/>
              </a:rPr>
              <a:t>ТАЪЛИМ-ТАРБИЯ ВА КАДРЛАР ТАЙЁРЛА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ИЗИМИНИ ТУБДАН ИСЛОҲ ҚИЛИ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АРКАМОЛ АВЛОДНИ ВОЯГА ЕТКАЗИШ ТЎҒРИСИДА</a:t>
            </a:r>
            <a:r>
              <a:rPr b="1" lang="uz-Cyrl-UZ" sz="2400" spc="-1" strike="noStrike">
                <a:solidFill>
                  <a:srgbClr val="ffffff"/>
                </a:solidFill>
                <a:latin typeface="Arial"/>
              </a:rPr>
              <a:t>”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06.10.1997 й.</a:t>
            </a:r>
            <a:r>
              <a:rPr b="1" lang="uz-Cyrl-UZ" sz="2000" spc="-1" strike="noStrike">
                <a:solidFill>
                  <a:srgbClr val="ffffff"/>
                </a:solidFill>
                <a:latin typeface="Arial"/>
              </a:rPr>
              <a:t> №</a:t>
            </a:r>
            <a:r>
              <a:rPr b="1" lang="ru-RU" sz="2000" spc="-1" strike="noStrike">
                <a:solidFill>
                  <a:srgbClr val="ffffff"/>
                </a:solidFill>
                <a:latin typeface="Arial"/>
              </a:rPr>
              <a:t> ПФ-186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591" name="Picture 5" descr="C:\Users\Латыпов\Desktop\gerb.gif"/>
          <p:cNvPicPr/>
          <p:nvPr/>
        </p:nvPicPr>
        <p:blipFill>
          <a:blip r:embed="rId1"/>
          <a:stretch/>
        </p:blipFill>
        <p:spPr>
          <a:xfrm>
            <a:off x="0" y="260280"/>
            <a:ext cx="914400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AutoShape 4"/>
          <p:cNvSpPr/>
          <p:nvPr/>
        </p:nvSpPr>
        <p:spPr>
          <a:xfrm>
            <a:off x="179280" y="2708280"/>
            <a:ext cx="8964720" cy="288144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755640" y="3213000"/>
            <a:ext cx="7632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авжуд таълим-тарбия тизимини тубдан ислоҳ қилиш, уни замон талаблари даражасига кўтариш, миллий кадрлар тайёрлашнинг янги тизимини барпо этиш, келажак учун баркамол, салоҳиятли авлодни тарбиялаш</a:t>
            </a:r>
            <a:r>
              <a:rPr b="0" lang="ru-RU" sz="2400" spc="-1" strike="noStrike">
                <a:solidFill>
                  <a:srgbClr val="ffffff"/>
                </a:solidFill>
                <a:latin typeface="Arial"/>
              </a:rPr>
              <a:t> </a:t>
            </a:r>
            <a:r>
              <a:rPr b="1" lang="ru-RU" sz="2400" spc="-1" strike="noStrike">
                <a:solidFill>
                  <a:srgbClr val="ffffff"/>
                </a:solidFill>
                <a:latin typeface="Arial"/>
              </a:rPr>
              <a:t>иборат. </a:t>
            </a:r>
            <a:endParaRPr b="0" lang="en-US" sz="2400" spc="-1" strike="noStrike">
              <a:solidFill>
                <a:srgbClr val="ffffff"/>
              </a:solidFill>
              <a:latin typeface="Arial"/>
            </a:endParaRPr>
          </a:p>
        </p:txBody>
      </p:sp>
      <p:sp>
        <p:nvSpPr>
          <p:cNvPr id="59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97" name="Двойная стрелка влево/вправо 3"/>
          <p:cNvGrpSpPr/>
          <p:nvPr/>
        </p:nvGrpSpPr>
        <p:grpSpPr>
          <a:xfrm>
            <a:off x="684360" y="0"/>
            <a:ext cx="7919640" cy="2146320"/>
            <a:chOff x="684360" y="0"/>
            <a:chExt cx="7919640" cy="2146320"/>
          </a:xfrm>
        </p:grpSpPr>
        <p:pic>
          <p:nvPicPr>
            <p:cNvPr id="59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59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сосий вазифалар:</a:t>
              </a:r>
              <a:r>
                <a:rPr b="0" lang="ru-RU" sz="2700" spc="-1" strike="noStrike">
                  <a:solidFill>
                    <a:srgbClr val="ff3300"/>
                  </a:solidFill>
                  <a:latin typeface="Arial"/>
                </a:rPr>
                <a:t> </a:t>
              </a:r>
              <a:r>
                <a:rPr b="1" i="1" lang="ru-RU" sz="2700" spc="-1" strike="noStrike">
                  <a:solidFill>
                    <a:srgbClr val="ff3300"/>
                  </a:solidFill>
                  <a:latin typeface="Arial"/>
                </a:rPr>
                <a:t> </a:t>
              </a:r>
              <a:r>
                <a:rPr b="0"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00" name=""/>
          <p:cNvSpPr/>
          <p:nvPr/>
        </p:nvSpPr>
        <p:spPr>
          <a:xfrm>
            <a:off x="539640" y="2043720"/>
            <a:ext cx="8137800" cy="457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100" spc="-1" strike="noStrike">
                <a:solidFill>
                  <a:srgbClr val="ffffff"/>
                </a:solidFill>
                <a:latin typeface="Arial"/>
              </a:rPr>
              <a:t>1.  "Таълим тўғрисида"ги Қонунни амалга ошириш ишларини мувофиқлаштириш, таълим-тарбия ва кадрлар тайёрлаш соҳасида давлат сиёсати тамойилларини ҳаётга татбиқ эт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2.  Республика вазирликлари, идоралари ва муассасалари ҳамда мулкчилик шаклидан қатъи назар барча ташкилотларнинг таълим-тарбия ва кадрлар тайёрлаш тизимини ислоҳ этиш билан боғлиқ фаолиятини мувофиқлаштир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3. Кадрлар тайёрлаш тизими меъёрий</a:t>
            </a:r>
            <a:r>
              <a:rPr b="0" lang="uz-Cyrl-UZ" sz="2100" spc="-1" strike="noStrike">
                <a:solidFill>
                  <a:srgbClr val="ffffff"/>
                </a:solidFill>
                <a:latin typeface="Arial"/>
              </a:rPr>
              <a:t> - </a:t>
            </a:r>
            <a:r>
              <a:rPr b="0" lang="ru-RU" sz="2100" spc="-1" strike="noStrike">
                <a:solidFill>
                  <a:srgbClr val="ffffff"/>
                </a:solidFill>
                <a:latin typeface="Arial"/>
              </a:rPr>
              <a:t>ҳуқуқий асосини Миллий дастур талабларига мос равишда қайта кўриб чиқишни ташкил қили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
          <p:cNvSpPr/>
          <p:nvPr/>
        </p:nvSpPr>
        <p:spPr>
          <a:xfrm>
            <a:off x="539640" y="1037520"/>
            <a:ext cx="828036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200" spc="-1" strike="noStrike">
                <a:solidFill>
                  <a:srgbClr val="ffffff"/>
                </a:solidFill>
                <a:latin typeface="Arial"/>
              </a:rPr>
              <a:t>4.Узлуксиз таълимнинг барча босқичлари учун давлат таълим стандартларини ишлаб чиқиш, тасдиқлаш ва амалиётга татбиқ эт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5.Узлуксиз таълим тизимининг Миллий моделини амалга ошир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6.Кадрларга бўлган талаб ва таклифни ўрганиш асосида таълим тизимининг истиқболли йўналишларини белги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7.Уч йиллик академик лицейлар ва касб-ҳунар коллежлари, олий таълим муассасалари тизимини Миллий дастур талаблари асосида ташкил этиш ва такомиллаштириш бўйича таклифлар кирит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
          <p:cNvSpPr/>
          <p:nvPr/>
        </p:nvSpPr>
        <p:spPr>
          <a:xfrm>
            <a:off x="684360" y="1333800"/>
            <a:ext cx="80438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8.Халқаро донорлар, хорижий инвесторлар, жамғарма ва жамоат ташкилотларининг маблағларини жалб этиш ва улардан унумли фойдаланишга шароит яра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9.Кадрлар тайёрлаш миллий дастурининг мониторингини олиб бор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0.Миллий дастурнинг бажарилиши ҳақида оммавий ахборот воситалари орқали мунтазам маълумот бериб бори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
          <p:cNvSpPr/>
          <p:nvPr/>
        </p:nvSpPr>
        <p:spPr>
          <a:xfrm>
            <a:off x="539640" y="2528280"/>
            <a:ext cx="81378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500" spc="-1" strike="noStrike">
                <a:solidFill>
                  <a:srgbClr val="ffffff"/>
                </a:solidFill>
                <a:latin typeface="Arial"/>
              </a:rPr>
              <a:t>“</a:t>
            </a:r>
            <a:r>
              <a:rPr b="1" lang="ru-RU" sz="2500" spc="-1" strike="noStrike">
                <a:solidFill>
                  <a:srgbClr val="ffffff"/>
                </a:solidFill>
                <a:latin typeface="Arial"/>
              </a:rPr>
              <a:t>ОЛИЙ МАЛАКАЛИ ИЛМИЙ</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ИЛМИЙ-ПЕДАГОГ КАДРЛАР ТАЙЁРЛАШ</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АТТЕСТАЦИЯДАН ЎТКАЗИШ ТИЗИМИН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ЯНАДА ТАКОМИЛЛАШТИРИШ ТЎҒРИСИДА</a:t>
            </a:r>
            <a:r>
              <a:rPr b="1" lang="uz-Cyrl-UZ" sz="2500" spc="-1" strike="noStrike">
                <a:solidFill>
                  <a:srgbClr val="ffffff"/>
                </a:solidFill>
                <a:latin typeface="Arial"/>
              </a:rPr>
              <a:t>”Г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24.07.2012 й.</a:t>
            </a:r>
            <a:r>
              <a:rPr b="1" lang="uz-Cyrl-UZ" sz="2500" spc="-1" strike="noStrike">
                <a:solidFill>
                  <a:srgbClr val="ffffff"/>
                </a:solidFill>
                <a:latin typeface="Arial"/>
              </a:rPr>
              <a:t> №</a:t>
            </a:r>
            <a:r>
              <a:rPr b="1" lang="ru-RU" sz="2500" spc="-1" strike="noStrike">
                <a:solidFill>
                  <a:srgbClr val="ffffff"/>
                </a:solidFill>
                <a:latin typeface="Arial"/>
              </a:rPr>
              <a:t> ПФ-4456</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04"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
          <p:cNvSpPr/>
          <p:nvPr/>
        </p:nvSpPr>
        <p:spPr>
          <a:xfrm>
            <a:off x="684360" y="2212560"/>
            <a:ext cx="8064360" cy="411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лий малакали илмий ва илмий-педагог кадрлар тайёрлаш ва аттестациядан ўтказиш тизимини янада такомиллаштириш, Кадрлар тайёрлаш миллий дастурининг устувор вазифаларини ва мамлакатда амалга оширилаётган иқтисодий ва демократик ислоҳотларни, илғор жаҳон тажрибаси ва илмий кадрларни аттестациядан ўтказишнинг халқаро стандартларини ҳисобга олган ҳолда олий ўқув юртидан кейинги таълим тизимини тубдан ислоҳ қилиш, шунингдек</a:t>
            </a:r>
            <a:r>
              <a:rPr b="0" lang="uz-Cyrl-UZ" sz="2200" spc="-1" strike="noStrike">
                <a:solidFill>
                  <a:srgbClr val="ffffff"/>
                </a:solidFill>
                <a:latin typeface="Arial"/>
              </a:rPr>
              <a:t>,</a:t>
            </a:r>
            <a:r>
              <a:rPr b="0" lang="ru-RU" sz="2200" spc="-1" strike="noStrike">
                <a:solidFill>
                  <a:srgbClr val="ffffff"/>
                </a:solidFill>
                <a:latin typeface="Arial"/>
              </a:rPr>
              <a:t> диссертация тадқиқотларининг сифатини, илмий ва амалий аҳамиятини ошириш, ёшларнинг ижодий ва интеллектуал салоҳиятини намоён этишига шароитлар яратиш</a:t>
            </a:r>
            <a:r>
              <a:rPr b="0" lang="uz-Cyrl-UZ" sz="2200" spc="-1" strike="noStrike">
                <a:solidFill>
                  <a:srgbClr val="ffffff"/>
                </a:solidFill>
                <a:latin typeface="Arial"/>
              </a:rPr>
              <a:t>дан иборат.</a:t>
            </a:r>
            <a:r>
              <a:rPr b="0" lang="ru-RU" sz="2200" spc="-1" strike="noStrike">
                <a:solidFill>
                  <a:srgbClr val="ffffff"/>
                </a:solidFill>
                <a:latin typeface="Arial"/>
              </a:rPr>
              <a:t> </a:t>
            </a:r>
            <a:endParaRPr b="0" lang="en-US" sz="2200" spc="-1" strike="noStrike">
              <a:solidFill>
                <a:srgbClr val="ffffff"/>
              </a:solidFill>
              <a:latin typeface="Arial"/>
            </a:endParaRPr>
          </a:p>
        </p:txBody>
      </p:sp>
      <p:sp>
        <p:nvSpPr>
          <p:cNvPr id="60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1:39:02Z</dcterms:created>
  <dc:creator>LORD</dc:creator>
  <dc:description/>
  <dc:language>en-US</dc:language>
  <cp:lastModifiedBy>User</cp:lastModifiedBy>
  <dcterms:modified xsi:type="dcterms:W3CDTF">2015-09-08T14:07:33Z</dcterms:modified>
  <cp:revision>229</cp:revision>
  <dc:subject/>
  <dc:title>Слайд 1</dc:title>
</cp:coreProperties>
</file>